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720360"/>
            <a:ext cx="93391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1828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75840" y="195696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6036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1828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75840" y="4553280"/>
            <a:ext cx="300708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840" y="455328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840" y="1956960"/>
            <a:ext cx="455724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553280"/>
            <a:ext cx="9339120" cy="23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39120" cy="879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39120" cy="4970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0360" y="720720"/>
            <a:ext cx="9358200" cy="144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6840360"/>
            <a:ext cx="9358200" cy="180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4520" cy="204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45600" cy="887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ius ADF No2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60360" y="1956960"/>
            <a:ext cx="9345600" cy="497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0" name=""/>
          <p:cNvSpPr/>
          <p:nvPr/>
        </p:nvSpPr>
        <p:spPr>
          <a:xfrm>
            <a:off x="360360" y="2160720"/>
            <a:ext cx="9358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inters to more effective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oftware &amp; data in audio research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1" name=""/>
          <p:cNvSpPr/>
          <p:nvPr/>
        </p:nvSpPr>
        <p:spPr>
          <a:xfrm>
            <a:off x="360360" y="4356000"/>
            <a:ext cx="93582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54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rk D Plumbley, Chris Cannam, Steve Welbur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54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544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1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y use version control?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undsoftware.ac.uk/why-version-contro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 Mercurial tutorial (command-line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hginit.co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ite-sized Mercurial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petevidler.com/series/mercurial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asyMercurial videos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easyhg.org/videos.htm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Carpentry version control (Subversion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ftware-carpentry.org/4_0/vc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Informal code review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Getting someone else to read your code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an be fairly informal in a peer set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.g.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use-case review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, following the line of code from known inputs and outputs 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0000" y="720360"/>
            <a:ext cx="9340920" cy="88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adable/reviewable co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0000" y="1956960"/>
            <a:ext cx="9340920" cy="497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adable variable nam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licing into method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mmenting the why, not the how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centrate on function prototypes / API descrip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heck the SWC paper?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uble-check what Cohen suggested as a review checklis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Code reviews? No problem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03640" y="1584360"/>
            <a:ext cx="5759280" cy="4822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9440" y="5832360"/>
            <a:ext cx="285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ius ADF No2"/>
              </a:rPr>
              <a:t>Dunsmore, Roper, Wood, 2000.</a:t>
            </a:r>
            <a:endParaRPr b="0" lang="en-US" sz="1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ius ADF No2"/>
              </a:rPr>
              <a:t>From </a:t>
            </a:r>
            <a:r>
              <a:rPr b="0" i="1" lang="en-GB" sz="1600" spc="-1" strike="noStrike">
                <a:solidFill>
                  <a:srgbClr val="000000"/>
                </a:solidFill>
                <a:latin typeface="Gillius ADF No2"/>
              </a:rPr>
              <a:t>Best-Kept Secrets of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Gillius ADF No2"/>
              </a:rPr>
              <a:t>Peer Code Review</a:t>
            </a:r>
            <a:r>
              <a:rPr b="0" lang="en-GB" sz="1600" spc="-1" strike="noStrike">
                <a:solidFill>
                  <a:srgbClr val="000000"/>
                </a:solidFill>
                <a:latin typeface="Gillius ADF No2"/>
              </a:rPr>
              <a:t>, Cohen, 2006</a:t>
            </a:r>
            <a:endParaRPr b="0" lang="en-US" sz="1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: what is it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“unit test” is a bit of code that calls one of your functions, gives it some input, and tells you whether it returned the right resul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a set of these, and you have a “test suite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 “test framework” can help you write them more quickly; there's at least one for every programming language and environmen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hould be set up so you can run all tests in one go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A philosophical poin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this involves becoming more comfortable with the idea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someone else will be looking at your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2840" indent="-5684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cumentation and unit testing become easi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28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 become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14828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blication and peer review become less scar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for a human reader, not just the computer: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nk of code as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your side of a convers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search software: The Question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How do you</a:t>
            </a:r>
            <a:r>
              <a:rPr b="0" i="1" lang="en-GB" sz="3200" spc="-1" strike="noStrike">
                <a:solidFill>
                  <a:srgbClr val="3e442c"/>
                </a:solidFill>
                <a:latin typeface="Gillius ADF No2"/>
              </a:rPr>
              <a:t> 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know your code implements your method at all?”</a:t>
            </a:r>
            <a:endParaRPr b="0" lang="en-US" sz="32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: what's it for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n automated way of ensuring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at your code's API work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at you don't break your code when changing i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Also useful when developing a tricky algorithm (using test-first, or test-driven develop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 question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How can I test my code if I don't know what results to expect?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reak it down into bits whose behaviour you can predic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(Testable code is better code anyway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est individual components, not the whole metho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l about trying to ensur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the code implements the method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,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not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the method is the right on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 question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hat sort of test data and test cases should I write?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 simplest possible ones!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But I have big data sets and complex results!”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n't use real-world data: that's a different type of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eek th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minimal possible input data se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that tests a particular behaviou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532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0" name=""/>
          <p:cNvSpPr/>
          <p:nvPr/>
        </p:nvSpPr>
        <p:spPr>
          <a:xfrm>
            <a:off x="360360" y="1957320"/>
            <a:ext cx="935532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5461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to help keep track of changes made to file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racks the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istory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f your wor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elps you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e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ith oth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opular examples include git, Mercurial, Subver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208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Keeping track of histor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2" name=""/>
          <p:cNvSpPr/>
          <p:nvPr/>
        </p:nvSpPr>
        <p:spPr>
          <a:xfrm>
            <a:off x="360360" y="1957320"/>
            <a:ext cx="9352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back to that working version you had yesterda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from "it's not working!" to understanding what went wro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would you repeat the experiments from that journal paper you wrote last year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3960" indent="-453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... with yourself!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4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 need to run the same software on your laptop at home and the server in the lab: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the code onto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if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at you have the same code on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 with other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6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're working on code or a paper with a colleague...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find out when they change somethi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merge your changes without getting in a mess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can you find out which of you introduced a bug, and when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helps with all thi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 version control syste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lvl="1" marL="1195560" indent="-736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cords your files' history for you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lvl="1" marL="1195560" indent="-736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hows differences between different version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lvl="1" marL="1195560" indent="-736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andles synchronisation between copies on different comput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ut you do have to work a bit: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ich files are part of your projec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en you've changed something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If two people mak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nflic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changes, one of them has to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solv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e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system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0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ubversion: Centralis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ne server, one repository databas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commit goes straight to the shared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ercurial, git: Distribut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working copy has complete repository in i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s are local, then push/pull between comput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8840" cy="89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is that different from Dropbox?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2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8840" cy="498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sistency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Software needs to b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exactly as written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across all fil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Files changed together must be updated togeth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lnSpc>
                <a:spcPct val="102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–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hanges to a file by different people must be merged correctl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cord keeping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-2826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blish and replicate history reliabl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-2826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terrogate past chang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Validation and verification 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alidation: Establishing how well your model represents rea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re expected to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anaging work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5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en should I start using version control for my projec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ich files should I track in the repositor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commi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pus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0360" y="441360"/>
            <a:ext cx="9344160" cy="144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Five/six/seven things to do tomorrow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1600" y="1889280"/>
            <a:ext cx="9542520" cy="4883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8000"/>
          </a:bodyPr>
          <a:p>
            <a:pPr marL="2674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Get your current research code into a version control repositor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1 hou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2674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Find a hosting site, push your repository ther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1 hou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2674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ll it onto another computer, see if you can build and run it agai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6 days 2 hour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2674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alk to another researcher in your group, allot an hour to experiment with reviewing a bit of each other's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1 hour to talk about it, 1 hour to do i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2674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dentify a piece of your code that you can isolate and tes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→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1 hou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2674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view licences used by code that your code use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2674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ick a licence for your code, put boilerplate at top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2674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2674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5792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Validation and verification 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alidation: Establishing how well your model represents rea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re expected to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ification: Establishing that you have implemented your mod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s is what formal software testing is abou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so what most informal good practice aims 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seldom attempt any of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Feedback cycles”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→ learn how code is wrong → fix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current software development “best practice” is just about trying to shorten or simplify this cyc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You want to know about your mistakes as early as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How we get feedback about co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66720" y="720720"/>
            <a:ext cx="87296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66720" y="720720"/>
            <a:ext cx="87296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66720" y="720720"/>
            <a:ext cx="87296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65280" y="720720"/>
            <a:ext cx="8731080" cy="621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07:15Z</dcterms:created>
  <dc:creator>markp</dc:creator>
  <dc:description/>
  <dc:language>en-US</dc:language>
  <cp:lastModifiedBy>markp</cp:lastModifiedBy>
  <cp:lastPrinted>2012-06-17T19:33:56Z</cp:lastPrinted>
  <dcterms:modified xsi:type="dcterms:W3CDTF">2012-02-21T19:22:26Z</dcterms:modified>
  <cp:revision>43</cp:revision>
  <dc:subject/>
  <dc:title>Sustainable Software for Audio &amp; Music Research</dc:title>
</cp:coreProperties>
</file>