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863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0868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move the slid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eries 60 Sans"/>
              </a:rPr>
              <a:t>Welcome to this presentation! Most of the slides hav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720360"/>
            <a:ext cx="934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76560" y="195696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6000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1828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676560" y="4554000"/>
            <a:ext cx="300744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560" y="455400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560" y="1956960"/>
            <a:ext cx="45583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000" y="4554000"/>
            <a:ext cx="9340920" cy="237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42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0360" y="720720"/>
            <a:ext cx="9358200" cy="144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" y="6840360"/>
            <a:ext cx="9358200" cy="180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4520" cy="204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47040" cy="888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ius ADF No2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47040" cy="497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4530600" cy="3445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686640" y="6896160"/>
            <a:ext cx="3060720" cy="539640"/>
          </a:xfrm>
          <a:prstGeom prst="rect">
            <a:avLst/>
          </a:prstGeom>
          <a:solidFill>
            <a:srgbClr val="fdf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5" name=""/>
          <p:cNvSpPr/>
          <p:nvPr/>
        </p:nvSpPr>
        <p:spPr>
          <a:xfrm>
            <a:off x="360360" y="2160720"/>
            <a:ext cx="93582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Pointers to more effective</a:t>
            </a:r>
            <a:br>
              <a:rPr sz="4400"/>
            </a:b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software &amp; data in audio research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" y="4356000"/>
            <a:ext cx="93582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272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ark D Plumbley, Chris Cannam, Steve Welbur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72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entre for Digital Music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72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Queen Mary, University of Lond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Levels of feedback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44160" cy="511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utermost: Publication, peer review, user feedback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n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tinuous integr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air programm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nermost: Compiler errors (or IDE / interactive code environ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ools to enable these: Version control; scripting for tests and experimental run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ich ones could I apply </a:t>
            </a:r>
            <a:r>
              <a:rPr b="1" i="1" lang="en-GB" sz="4400" spc="-1" strike="noStrike">
                <a:solidFill>
                  <a:srgbClr val="3e442c"/>
                </a:solidFill>
                <a:latin typeface="Gillius ADF No2"/>
              </a:rPr>
              <a:t>tomorrow</a:t>
            </a: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utermost: Publication, peer review, user feedback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n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tinuous integr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air programm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nermost: Compiler errors (or IDE / interactive code environ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ools to enable these: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Version control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;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scripting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for tests and experimental run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Further reading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0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y use version control?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soundsoftware.ac.uk/why-version-control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 Mercurial tutorial (command-line)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hginit.co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Bite-sized Mercurial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petevidler.com/series/mercurial/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asyMercurial videos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easyhg.org/videos.html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oftware Carpentry version control (Subversion)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software-carpentry.org/4_0/vc/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Informal code review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Getting someone else to read your code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an be fairly informal in a peer set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e.g.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use-case reviewing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, following the line of code from known inputs and outputs 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Code reviews? No problem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303640" y="1584360"/>
            <a:ext cx="5759280" cy="4822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859440" y="5832360"/>
            <a:ext cx="2859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ius ADF No2"/>
              </a:rPr>
              <a:t>Dunsmore, Roper, Wood, 2000.</a:t>
            </a:r>
            <a:endParaRPr b="0" lang="en-US" sz="1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ius ADF No2"/>
              </a:rPr>
              <a:t>From </a:t>
            </a:r>
            <a:r>
              <a:rPr b="0" i="1" lang="en-GB" sz="1600" spc="-1" strike="noStrike">
                <a:solidFill>
                  <a:srgbClr val="000000"/>
                </a:solidFill>
                <a:latin typeface="Gillius ADF No2"/>
              </a:rPr>
              <a:t>Best-Kept Secrets of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Gillius ADF No2"/>
              </a:rPr>
              <a:t>Peer Code Review</a:t>
            </a:r>
            <a:r>
              <a:rPr b="0" lang="en-GB" sz="1600" spc="-1" strike="noStrike">
                <a:solidFill>
                  <a:srgbClr val="000000"/>
                </a:solidFill>
                <a:latin typeface="Gillius ADF No2"/>
              </a:rPr>
              <a:t>, Cohen, 2006</a:t>
            </a:r>
            <a:endParaRPr b="0" lang="en-US" sz="1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: what is it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 “unit test” is a bit of code that calls one of your functions, gives it some input, and tells you whether it returned the right resul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a set of these, and you have a “test suite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 “test framework” can help you write them more quickly; there's at least one for every programming language and environmen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hould be set up so you can run all tests in one go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Research software: The Question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How do you</a:t>
            </a:r>
            <a:r>
              <a:rPr b="0" i="1" lang="en-GB" sz="3200" spc="-1" strike="noStrike">
                <a:solidFill>
                  <a:srgbClr val="3e442c"/>
                </a:solidFill>
                <a:latin typeface="Gillius ADF No2"/>
              </a:rPr>
              <a:t> 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know your code implements your method at all?”</a:t>
            </a:r>
            <a:endParaRPr b="0" lang="en-US" sz="32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: what's it for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n automated way of ensuring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at your code's API work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at you don't break your code when changing i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lso useful when developing a tricky algorithm (using test-first, or test-driven develop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 question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How can I test my code if I don't know what results to expect?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Break it down into bits whose behaviour you can predic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(Testable code is better code anyway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est individual components, not the whole method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t's all about trying to ensur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the code implements the method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,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not that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the method is the right on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 question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sort of test data and test cases should I write?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 simplest possible ones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But I have big data sets and complex results!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n't use real-world data: that's a different type of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eek th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minimal possible input data set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that tests a particular behaviou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A philosophical poin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uch of this involves becoming more comfortable with the idea that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someone else will be looking at your cod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cumentation and unit testing become easi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de reviews become possi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ublication and peer review become less scar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code for a human reader, not just the computer: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ink of code as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your side of a convers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532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77" name=""/>
          <p:cNvSpPr/>
          <p:nvPr/>
        </p:nvSpPr>
        <p:spPr>
          <a:xfrm>
            <a:off x="360360" y="1957320"/>
            <a:ext cx="935532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54612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oftware to help keep track of changes made to file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racks the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istory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f your work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elps you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e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ith oth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opular examples include git, Mercurial, Subversi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208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Keeping track of history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79" name=""/>
          <p:cNvSpPr/>
          <p:nvPr/>
        </p:nvSpPr>
        <p:spPr>
          <a:xfrm>
            <a:off x="360360" y="1957320"/>
            <a:ext cx="9352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back to that working version you had yesterday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from "it's not working!" to understanding what went wrong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would you repeat the experiments from that journal paper you wrote last year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ing... with yourself!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81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You need to run the same software on your laptop at home and the server in the lab: 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the code onto bot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if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hat you have the same code on bot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ing with other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You're working on code or a paper with a colleague... 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find out when they change something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merge your changes without getting in a mess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can you find out which of you introduced a bug, and when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helps with all thi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85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 version control syste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lvl="1" marL="1197000" indent="-738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cords your files' history for you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lvl="1" marL="1197000" indent="-738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hows differences between different version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lvl="1" marL="1197000" indent="-738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andles synchronisation between copies on different comput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But you do have to work a bit: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ell it which files are part of your project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ell it when you've changed something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If two people mak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nflicting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changes, one of them has to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solve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he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system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87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ubversion: Centralised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ne server, one repository database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very commit goes straight to the shared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Mercurial, git: Distributed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very working copy has complete repository in it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mmits are local, then push/pull between comput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4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Validation and verification 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alidation: Establishing how well your model represents realit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are expected to do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8840" cy="89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is that different from Dropbox?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89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8840" cy="498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sistency across multiple files and multiple authors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lnSpc>
                <a:spcPct val="102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–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oftware needs to b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exactly as written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across all file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lnSpc>
                <a:spcPct val="102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–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 change may affect more than one file; all changed files must be updated togeth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lnSpc>
                <a:spcPct val="102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–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f you and I both change a file, we must merge changes, make sure the result works, and record that the merge happened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lso, ability to publish and replicate history reliabl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terminology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92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positor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- the complete history of your project: every version of every file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orking cop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- the project as you're working on it now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dd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a file you want the system to track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mmit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record a change, making a new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visi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Update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make your working copy reflect a different revision from the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ush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r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ull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synchronise copies of a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Managing work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94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en should I start using version control for my project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ich files should I track in the repository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often should I commit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often should I pus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Five things to do tomorrow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506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Validation and verification 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alidation: Establishing how well your model represents realit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are expected to do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erification: Establishing that you have implemented your mod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is is what formal software testing is abou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t's also what most informal good practice aims 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seldom attempt any of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Feedback cycles”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code → learn how code is wrong → fix cod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uch of current software development “best practice” is just about trying to shorten or simplify this cyc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You want to know about your mistakes as early as possi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How we get feedback about cod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66720" y="720720"/>
            <a:ext cx="87296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66720" y="720720"/>
            <a:ext cx="87296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66720" y="720720"/>
            <a:ext cx="87296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07:15Z</dcterms:created>
  <dc:creator>markp</dc:creator>
  <dc:description/>
  <dc:language>en-US</dc:language>
  <cp:lastModifiedBy>markp</cp:lastModifiedBy>
  <cp:lastPrinted>2012-06-17T19:33:56Z</cp:lastPrinted>
  <dcterms:modified xsi:type="dcterms:W3CDTF">2012-02-21T19:22:26Z</dcterms:modified>
  <cp:revision>43</cp:revision>
  <dc:subject/>
  <dc:title>Sustainable Software for Audio &amp; Music Research</dc:title>
</cp:coreProperties>
</file>