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29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185480" y="4788000"/>
            <a:ext cx="5388120" cy="380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1012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move the slide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7760" cy="3770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216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Series 60 Sans"/>
              </a:rPr>
              <a:t>Welcome to this presentation! Most of the slides hav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000" y="720720"/>
            <a:ext cx="9342360" cy="409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19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78000" y="195732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60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519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678000" y="4555440"/>
            <a:ext cx="30081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7280" y="455544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7280" y="1957320"/>
            <a:ext cx="455904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4555440"/>
            <a:ext cx="9342360" cy="2372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3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42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720720"/>
            <a:ext cx="9360000" cy="144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6840360"/>
            <a:ext cx="9360000" cy="1800"/>
          </a:xfrm>
          <a:prstGeom prst="line">
            <a:avLst/>
          </a:prstGeom>
          <a:ln w="28800">
            <a:solidFill>
              <a:srgbClr val="a9b6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5960" cy="204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2360" cy="882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e442c"/>
                </a:solidFill>
                <a:latin typeface="Gillius ADF No2"/>
              </a:rPr>
              <a:t>Click to edit the title text forma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2360" cy="4973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60360" y="720720"/>
            <a:ext cx="9358200" cy="144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68" name=""/>
          <p:cNvSpPr/>
          <p:nvPr/>
        </p:nvSpPr>
        <p:spPr>
          <a:xfrm>
            <a:off x="360360" y="6840360"/>
            <a:ext cx="9358200" cy="1800"/>
          </a:xfrm>
          <a:prstGeom prst="line">
            <a:avLst/>
          </a:prstGeom>
          <a:ln w="28800">
            <a:solidFill>
              <a:srgbClr val="a9b6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020000" y="6908760"/>
            <a:ext cx="2684520" cy="204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48840" cy="890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illius ADF No2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360000" y="1957320"/>
            <a:ext cx="9348840" cy="4981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lnSpc>
                <a:spcPct val="102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Click to edit the outline text form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con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2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Third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3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our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4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Fif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5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ix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6" marL="343080" indent="-343080">
              <a:lnSpc>
                <a:spcPct val="102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3e442c"/>
                </a:solidFill>
                <a:latin typeface="Gillius ADF No2"/>
              </a:rPr>
              <a:t>Seventh Outline Leve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4530600" cy="3445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686640" y="6896160"/>
            <a:ext cx="3060720" cy="539640"/>
          </a:xfrm>
          <a:prstGeom prst="rect">
            <a:avLst/>
          </a:prstGeom>
          <a:solidFill>
            <a:srgbClr val="fdfa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4" name=""/>
          <p:cNvSpPr/>
          <p:nvPr/>
        </p:nvSpPr>
        <p:spPr>
          <a:xfrm>
            <a:off x="360360" y="2160720"/>
            <a:ext cx="9358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Pointers to more effective</a:t>
            </a:r>
            <a:br>
              <a:rPr sz="4400"/>
            </a:b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software &amp; data in audio research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35" name=""/>
          <p:cNvSpPr/>
          <p:nvPr/>
        </p:nvSpPr>
        <p:spPr>
          <a:xfrm>
            <a:off x="360360" y="4356000"/>
            <a:ext cx="9358200" cy="23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ark D Plumbley, Chris Cannam, Steve Welbur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entre for Digital Music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343080" indent="-328680" algn="r">
              <a:spcBef>
                <a:spcPts val="64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Queen Mary, University of Lond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0360" y="6948360"/>
            <a:ext cx="852480" cy="3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... with yourself!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 need to run the same software on your laptop at home and the server in the lab: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the code onto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if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at you have the same code on bot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ing with other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6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You're working on code or a paper with a colleague... 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find out when they change somethi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merge your changes without getting in a mess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can you find out which of you introduced a bug, and when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helps with all thi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ut you do have to work a bit: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ich files are part of your projec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ell it when you've changed something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If two people make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nflic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changes, one of them has to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solv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he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terminolog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0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positor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complete history of your project: every version of every fil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orking copy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- the project as you're working on it now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dd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a file you want the system to trac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record a change, making a new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revi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Update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make your working copy reflect a different revision from the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sh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r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ul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 to synchronise copies of a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anaging work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2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en should I start using version control for my projec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ich files should I track in the repositor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commit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often should I push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 systems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4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ubversion: Centralis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ne server, one repository database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commit goes straight to the shared repository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Mercurial, git: Distributed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very working copy has complete repository in it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mmits are local, then push/pull between comput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How do I start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60000" y="720720"/>
            <a:ext cx="9350280" cy="892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Further reading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68" name=""/>
          <p:cNvSpPr/>
          <p:nvPr/>
        </p:nvSpPr>
        <p:spPr>
          <a:xfrm>
            <a:off x="360360" y="1957320"/>
            <a:ext cx="935028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hy use version control?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undsoftware.ac.uk/why-version-contro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A Mercurial tutorial (command-line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hginit.com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Bite-sized Mercurial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petevidler.com/series/mercurial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EasyMercurial videos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easyhg.org/videos.html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Carpentry version control (Subversion)</a:t>
            </a:r>
            <a:br>
              <a:rPr sz="2600"/>
            </a:b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ttp://software-carpentry.org/4_0/vc/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576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sert material from Greg's book pointing to effectiveness of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0280" cy="992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Research software: The Question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7430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How do I</a:t>
            </a:r>
            <a:r>
              <a:rPr b="0" i="1" lang="en-GB" sz="3200" spc="-1" strike="noStrike">
                <a:solidFill>
                  <a:srgbClr val="3e442c"/>
                </a:solidFill>
                <a:latin typeface="Gillius ADF No2"/>
              </a:rPr>
              <a:t> </a:t>
            </a:r>
            <a:r>
              <a:rPr b="0" lang="en-GB" sz="3200" spc="-1" strike="noStrike">
                <a:solidFill>
                  <a:srgbClr val="3e442c"/>
                </a:solidFill>
                <a:latin typeface="Gillius ADF No2"/>
              </a:rPr>
              <a:t>know it does what I think it should?”</a:t>
            </a:r>
            <a:endParaRPr b="0" lang="en-US" sz="32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A philosophical point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this involves becoming more comfortable with the idea that </a:t>
            </a:r>
            <a:r>
              <a:rPr b="0" i="1" lang="en-GB" sz="2600" spc="-1" strike="noStrike">
                <a:solidFill>
                  <a:srgbClr val="3e442c"/>
                </a:solidFill>
                <a:latin typeface="Gillius ADF No2"/>
              </a:rPr>
              <a:t>someone else will be looking at your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Documentation and unit testing become easi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 become possib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ublication and peer review become less scar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for a human reader, not just the computer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Even if you're working alone, have an imaginary reader in mind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Validation and verification 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alidation: Establishing how well your model represents reality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are expected to do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ification: Establishing that you have actually implemented the model you are describ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is is what formal software testing is abou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t's also what most informal good practice aims at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Research papers seldom do any of thi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“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Feedback cycle”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Write code → learn how code is wrong → fix cod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Much of current software development “best practice” is about trying to shorten or simplify this cycle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Levels of feedback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Version control; scripting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hich ones could I apply </a:t>
            </a:r>
            <a:r>
              <a:rPr b="1" i="1" lang="en-GB" sz="4400" spc="-1" strike="noStrike">
                <a:solidFill>
                  <a:srgbClr val="3e442c"/>
                </a:solidFill>
                <a:latin typeface="Gillius ADF No2"/>
              </a:rPr>
              <a:t>tomorrow</a:t>
            </a: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?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Outermost: Publication, peer review, user feedback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hen: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Continuous integration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Pair programm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nermost: Compiler errors (or IDE / interactive code environment)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Tools to enable these: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;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</a:rPr>
              <a:t>scripting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 for tests and experimental run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60360" y="720720"/>
            <a:ext cx="9344160" cy="884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</a:rPr>
              <a:t>We're going to cover...</a:t>
            </a:r>
            <a:endParaRPr b="1" lang="en-US" sz="4400" spc="-1" strike="noStrike">
              <a:solidFill>
                <a:srgbClr val="3e442c"/>
              </a:solidFill>
              <a:latin typeface="Gillius ADF No2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0360" y="1957320"/>
            <a:ext cx="9344160" cy="49752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Version control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Informal code reviews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</a:rPr>
              <a:t>Unit testing</a:t>
            </a: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3e442c"/>
              </a:solidFill>
              <a:latin typeface="Gillius ADF No2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60000" y="669960"/>
            <a:ext cx="9355320" cy="998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Version control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0" name=""/>
          <p:cNvSpPr/>
          <p:nvPr/>
        </p:nvSpPr>
        <p:spPr>
          <a:xfrm>
            <a:off x="360360" y="1957320"/>
            <a:ext cx="9355320" cy="49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Software to help keep track of changes made to file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Tracks the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istory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of your work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elps you </a:t>
            </a:r>
            <a:r>
              <a:rPr b="1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collaborate </a:t>
            </a: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with others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Popular examples include git, Mercurial, Subversion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54612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63680"/>
                <a:tab algn="l" pos="568440"/>
                <a:tab algn="l" pos="1017720"/>
                <a:tab algn="l" pos="1467000"/>
                <a:tab algn="l" pos="1916280"/>
                <a:tab algn="l" pos="2365200"/>
                <a:tab algn="l" pos="2813040"/>
                <a:tab algn="l" pos="3262320"/>
                <a:tab algn="l" pos="3711600"/>
                <a:tab algn="l" pos="4160880"/>
                <a:tab algn="l" pos="4610160"/>
                <a:tab algn="l" pos="5059440"/>
                <a:tab algn="l" pos="5508720"/>
                <a:tab algn="l" pos="5958000"/>
                <a:tab algn="l" pos="6407280"/>
                <a:tab algn="l" pos="6856560"/>
                <a:tab algn="l" pos="7307280"/>
                <a:tab algn="l" pos="7756560"/>
                <a:tab algn="l" pos="8205840"/>
                <a:tab algn="l" pos="8655120"/>
                <a:tab algn="l" pos="9104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a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720360"/>
            <a:ext cx="9352080" cy="893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Keeping track of history</a:t>
            </a:r>
            <a:endParaRPr b="0" lang="en-US" sz="4400" spc="-1" strike="noStrike">
              <a:solidFill>
                <a:srgbClr val="ffffff"/>
              </a:solidFill>
              <a:latin typeface="Gillius ADF No2"/>
            </a:endParaRPr>
          </a:p>
        </p:txBody>
      </p:sp>
      <p:sp>
        <p:nvSpPr>
          <p:cNvPr id="252" name=""/>
          <p:cNvSpPr/>
          <p:nvPr/>
        </p:nvSpPr>
        <p:spPr>
          <a:xfrm>
            <a:off x="360360" y="1957320"/>
            <a:ext cx="9352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back to that working version you had yesterday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do you get from "it's not working!" to understanding what went wrong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3e442c"/>
                </a:solidFill>
                <a:latin typeface="Gillius ADF No2"/>
                <a:ea typeface="DejaVu Sans"/>
              </a:rPr>
              <a:t>How would you repeat the experiments from that journal paper you wrote last year?</a:t>
            </a: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  <a:p>
            <a:pPr marL="457200" indent="-4557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800280"/>
                <a:tab algn="l" pos="9050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Gillius ADF No2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14:07:15Z</dcterms:created>
  <dc:creator>markp</dc:creator>
  <dc:description/>
  <dc:language>en-US</dc:language>
  <cp:lastModifiedBy>markp</cp:lastModifiedBy>
  <cp:lastPrinted>2012-06-17T19:33:56Z</cp:lastPrinted>
  <dcterms:modified xsi:type="dcterms:W3CDTF">2012-02-21T19:22:26Z</dcterms:modified>
  <cp:revision>43</cp:revision>
  <dc:subject/>
  <dc:title>Sustainable Software for Audio &amp; Music Research</dc:title>
</cp:coreProperties>
</file>