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388120" cy="38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move the sli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eries 60 Sans"/>
              </a:rPr>
              <a:t>Welcome to this presentation! Most of the slides hav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0360" y="720720"/>
            <a:ext cx="9358200" cy="144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6840360"/>
            <a:ext cx="9358200" cy="180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4520" cy="204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8840" cy="89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ius ADF No2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8840" cy="498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2160720"/>
            <a:ext cx="9358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inters to more effective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oftware &amp; data in audio research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5" name=""/>
          <p:cNvSpPr/>
          <p:nvPr/>
        </p:nvSpPr>
        <p:spPr>
          <a:xfrm>
            <a:off x="360360" y="4356000"/>
            <a:ext cx="93582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rk D Plumbley, Chris Cannam, Steve Welbur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... with yourself!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4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 need to run the same software on your laptop at home and the server in the lab: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the code onto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if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at you have the same code on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 with other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6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're working on code or a paper with a colleague...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find out when they change somethi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merge your changes without getting in a mess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can you find out which of you introduced a bug, and when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helps with all thi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ut you do have to work a bit: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ich files are part of your projec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en you've changed something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If two people mak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nflic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changes, one of them has to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solv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e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terminolog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0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positor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complete history of your project: every version of every fil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orking cop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project as you're working on it now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dd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a file you want the system to trac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record a change, making a new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vi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Updat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make your working copy reflect a different revision from the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sh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r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l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synchronise copies of a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anaging work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2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en should I start using version control for my projec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ich files should I track in the repositor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commi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pus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system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4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ubversion: Centralis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ne server, one repository databas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commit goes straight to the shared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ercurial, git: Distribut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working copy has complete repository in i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s are local, then push/pull between comput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How do I start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8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y use version control?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undsoftware.ac.uk/why-version-contro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 Mercurial tutorial (command-line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hginit.co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ite-sized Mercurial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petevidler.com/series/mercurial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asyMercurial videos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easyhg.org/videos.htm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Carpentry version control (Subversion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ftware-carpentry.org/4_0/vc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Informal code review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sert material from Greg's book pointing to effectiveness of 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: what is it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“unit test” is a bit of code that calls one of your functions, gives it some input, and tells you whether it returned the right resul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a set of these, and you have a “test suite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“test framework” can help you write them more quickly; there's at least one for every programming language and environmen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hould be set up so you can run all tests in one go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search software: The Question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How do you</a:t>
            </a:r>
            <a:r>
              <a:rPr b="0" i="1" lang="en-GB" sz="3200" spc="-1" strike="noStrike">
                <a:solidFill>
                  <a:srgbClr val="3e442c"/>
                </a:solidFill>
                <a:latin typeface="Gillius ADF No2"/>
              </a:rPr>
              <a:t> 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know it does what you said it did?”</a:t>
            </a:r>
            <a:endParaRPr b="0" lang="en-US" sz="32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: what's it for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n automated way of ensuring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at your code's API work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at you don't break your code when changing i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lso useful when developing a tricky algorithm (using test-first, or test-driven develop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 question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How can I test my code if I don't know what results to expect?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reak it down into bits whose behaviour you can predic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(Testable code is better code anyway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est individual components, not the whole metho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l about trying to ensur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the code implements the method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,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not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the method is the right on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 question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sort of test data and test cases should I write?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 simplest possible ones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ut I have big data sets and complex results!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n't use real-world data: that's a different type of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eek th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minimal possible input data se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that tests a particular behaviou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ree or four samples, not 3,729,040,317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A philosophical poin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this involves becoming more comfortable with the idea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someone else will be looking at your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cumentation and unit testing become easi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 become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blication and peer review become less scar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for a human reader, not just the computer: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nk of code as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your side of a convers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ven if you're working alone, have an imaginary reader in min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Validation and verification 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alidation: Establishing how well your model represents rea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re expected to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ification: Establishing that you have implemented your mod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s is what formal software testing is abou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so what most informal good practice aims 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seldom attempt any of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Feedback cycle”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→ learn how code is wrong → fix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current software development “best practice” is just about trying to shorten or simplify this cyc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You always want to know about your mistakes as early as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Levels of feedback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Version control; scripting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ich ones could I apply </a:t>
            </a:r>
            <a:r>
              <a:rPr b="1" i="1" lang="en-GB" sz="4400" spc="-1" strike="noStrike">
                <a:solidFill>
                  <a:srgbClr val="3e442c"/>
                </a:solidFill>
                <a:latin typeface="Gillius ADF No2"/>
              </a:rPr>
              <a:t>tomorrow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Version contro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;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scrip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e're going to focus on...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sion contro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formal 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532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0" name=""/>
          <p:cNvSpPr/>
          <p:nvPr/>
        </p:nvSpPr>
        <p:spPr>
          <a:xfrm>
            <a:off x="360360" y="1957320"/>
            <a:ext cx="935532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to help keep track of changes made to file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racks the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istory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f your wor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elps you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e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ith oth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opular examples include git, Mercurial, Subver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208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Keeping track of histor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2" name=""/>
          <p:cNvSpPr/>
          <p:nvPr/>
        </p:nvSpPr>
        <p:spPr>
          <a:xfrm>
            <a:off x="360360" y="1957320"/>
            <a:ext cx="9352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back to that working version you had yesterda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from "it's not working!" to understanding what went wro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would you repeat the experiments from that journal paper you wrote last year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07:15Z</dcterms:created>
  <dc:creator>markp</dc:creator>
  <dc:description/>
  <dc:language>en-US</dc:language>
  <cp:lastModifiedBy>markp</cp:lastModifiedBy>
  <cp:lastPrinted>2012-06-17T19:33:56Z</cp:lastPrinted>
  <dcterms:modified xsi:type="dcterms:W3CDTF">2012-02-21T19:22:26Z</dcterms:modified>
  <cp:revision>43</cp:revision>
  <dc:subject/>
  <dc:title>Sustainable Software for Audio &amp; Music Research</dc:title>
</cp:coreProperties>
</file>