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863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0868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move the slid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eries 60 Sans"/>
              </a:rPr>
              <a:t>Welcome to this presentation! Most of the slides hav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656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00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828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656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0000" y="720360"/>
            <a:ext cx="934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7656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000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828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7656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0000" y="720360"/>
            <a:ext cx="934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7656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000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1828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7656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0000" y="720360"/>
            <a:ext cx="934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7656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000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1828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7656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60000" y="720360"/>
            <a:ext cx="934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000" y="720360"/>
            <a:ext cx="934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7656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6000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1828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67656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42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0360" y="720720"/>
            <a:ext cx="9358200" cy="144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68" name=""/>
          <p:cNvSpPr/>
          <p:nvPr/>
        </p:nvSpPr>
        <p:spPr>
          <a:xfrm>
            <a:off x="360360" y="6840360"/>
            <a:ext cx="9358200" cy="180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4520" cy="204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47040" cy="888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ius ADF No2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60360" y="1956960"/>
            <a:ext cx="9347040" cy="497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4530600" cy="3445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686640" y="6896160"/>
            <a:ext cx="3060720" cy="539640"/>
          </a:xfrm>
          <a:prstGeom prst="rect">
            <a:avLst/>
          </a:prstGeom>
          <a:solidFill>
            <a:srgbClr val="fdf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5" name=""/>
          <p:cNvSpPr/>
          <p:nvPr/>
        </p:nvSpPr>
        <p:spPr>
          <a:xfrm>
            <a:off x="360360" y="2160720"/>
            <a:ext cx="93582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Pointers to more effective</a:t>
            </a:r>
            <a:br>
              <a:rPr sz="4400"/>
            </a:b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software &amp; data in audio research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" y="4356000"/>
            <a:ext cx="93582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2724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ark D Plumbley, Chris Cannam, Steve Welbur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724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entre for Digital Music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724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Queen Mary, University of Lond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Open access, open publication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07:15Z</dcterms:created>
  <dc:creator>markp</dc:creator>
  <dc:description/>
  <dc:language>en-US</dc:language>
  <cp:lastModifiedBy>markp</cp:lastModifiedBy>
  <cp:lastPrinted>2012-06-17T19:33:56Z</cp:lastPrinted>
  <dcterms:modified xsi:type="dcterms:W3CDTF">2012-02-21T19:22:26Z</dcterms:modified>
  <cp:revision>43</cp:revision>
  <dc:subject/>
  <dc:title>Sustainable Software for Audio &amp; Music Research</dc:title>
</cp:coreProperties>
</file>