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1185480" y="4788000"/>
            <a:ext cx="5388120" cy="38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1012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move the slide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7760" cy="37702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21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eries 60 Sans"/>
              </a:rPr>
              <a:t>Welcome to this presentation! Most of the slides hav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0000" y="455544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28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9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8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9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8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60000" y="720720"/>
            <a:ext cx="934236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728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0000" y="455544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4728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19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78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0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19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78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60000" y="720720"/>
            <a:ext cx="934236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4728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0000" y="455544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4728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19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678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60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19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678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60000" y="720720"/>
            <a:ext cx="934236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14728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60000" y="455544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14728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19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678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60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19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678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620A-2F26-403F-BBF6-C6FE0AFD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6708-2FC7-48F9-B210-CED32703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6A1F-B732-4E50-B3A3-DA6C8FF7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75BB-D9D0-4188-A65F-9ACE0152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AA58-4EFA-45E4-AC4E-C56EB520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60000" y="720720"/>
            <a:ext cx="934236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132E-6329-47F2-8475-D49B2513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2280-88BD-4C7B-8F7B-92D5FB27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14728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5157-1389-47B4-9EF9-230A0992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0DB2-C499-4967-9509-BF32650B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60000" y="455544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7706-2B1B-48BB-80E2-87475270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14728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4D76-7778-4156-ABCA-7017A60D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000" y="720720"/>
            <a:ext cx="934236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19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78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360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19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678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F3CA-A457-413F-A737-5F618DC85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360000" y="720720"/>
            <a:ext cx="934236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14728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60000" y="455544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14728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519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678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360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519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678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28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edit the title text format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" name=""/>
          <p:cNvSpPr/>
          <p:nvPr/>
        </p:nvSpPr>
        <p:spPr>
          <a:xfrm>
            <a:off x="360360" y="720720"/>
            <a:ext cx="9360000" cy="144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3" name=""/>
          <p:cNvSpPr/>
          <p:nvPr/>
        </p:nvSpPr>
        <p:spPr>
          <a:xfrm>
            <a:off x="360360" y="6840360"/>
            <a:ext cx="9360000" cy="180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5960" cy="20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0360" y="720720"/>
            <a:ext cx="9360000" cy="144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42" name=""/>
          <p:cNvSpPr/>
          <p:nvPr/>
        </p:nvSpPr>
        <p:spPr>
          <a:xfrm>
            <a:off x="360360" y="6840360"/>
            <a:ext cx="9360000" cy="180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5960" cy="204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60360" y="6948360"/>
            <a:ext cx="852480" cy="339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edit the title text format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60360" y="720720"/>
            <a:ext cx="9360000" cy="144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6840360"/>
            <a:ext cx="9360000" cy="180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5960" cy="204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60360" y="6948360"/>
            <a:ext cx="852480" cy="3398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edit the title text format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0360" y="720720"/>
            <a:ext cx="9360000" cy="144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26" name=""/>
          <p:cNvSpPr/>
          <p:nvPr/>
        </p:nvSpPr>
        <p:spPr>
          <a:xfrm>
            <a:off x="360360" y="6840360"/>
            <a:ext cx="9360000" cy="180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5960" cy="204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60360" y="6948360"/>
            <a:ext cx="852480" cy="339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edit the title text format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60360" y="720720"/>
            <a:ext cx="9358200" cy="1440"/>
          </a:xfrm>
          <a:prstGeom prst="line">
            <a:avLst/>
          </a:prstGeom>
          <a:ln w="28800">
            <a:solidFill>
              <a:srgbClr val="a9b6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68" name=""/>
          <p:cNvSpPr/>
          <p:nvPr/>
        </p:nvSpPr>
        <p:spPr>
          <a:xfrm>
            <a:off x="360360" y="6840360"/>
            <a:ext cx="9358200" cy="1800"/>
          </a:xfrm>
          <a:prstGeom prst="line">
            <a:avLst/>
          </a:prstGeom>
          <a:ln w="28800">
            <a:solidFill>
              <a:srgbClr val="a9b6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4520" cy="2048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8840" cy="89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ius ADF No2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2"/>
          </p:nvPr>
        </p:nvSpPr>
        <p:spPr>
          <a:xfrm>
            <a:off x="3446280" y="688644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1BFAC-5309-4FA1-B24D-4342DCC16F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60360" y="720720"/>
            <a:ext cx="9358200" cy="1440"/>
          </a:xfrm>
          <a:prstGeom prst="line">
            <a:avLst/>
          </a:prstGeom>
          <a:ln w="28800">
            <a:solidFill>
              <a:srgbClr val="a9b6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2" name=""/>
          <p:cNvSpPr/>
          <p:nvPr/>
        </p:nvSpPr>
        <p:spPr>
          <a:xfrm>
            <a:off x="360360" y="6840360"/>
            <a:ext cx="9358200" cy="1800"/>
          </a:xfrm>
          <a:prstGeom prst="line">
            <a:avLst/>
          </a:prstGeom>
          <a:ln w="28800">
            <a:solidFill>
              <a:srgbClr val="a9b6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4520" cy="20484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8840" cy="89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ius ADF No2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360000" y="1957320"/>
            <a:ext cx="9348840" cy="498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60360" y="900000"/>
            <a:ext cx="4530600" cy="3445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6686640" y="6896160"/>
            <a:ext cx="3060720" cy="539640"/>
          </a:xfrm>
          <a:prstGeom prst="rect">
            <a:avLst/>
          </a:prstGeom>
          <a:solidFill>
            <a:srgbClr val="fdfa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78" name=""/>
          <p:cNvSpPr/>
          <p:nvPr/>
        </p:nvSpPr>
        <p:spPr>
          <a:xfrm>
            <a:off x="360360" y="2160720"/>
            <a:ext cx="93582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Pointers to more effective</a:t>
            </a:r>
            <a:br>
              <a:rPr sz="4400"/>
            </a:b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software &amp; data in audio research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79" name=""/>
          <p:cNvSpPr/>
          <p:nvPr/>
        </p:nvSpPr>
        <p:spPr>
          <a:xfrm>
            <a:off x="360360" y="4356000"/>
            <a:ext cx="93582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28680" algn="r"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Mark D Plumbley, Chris Cannam, Steve Welburn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343080" indent="-328680" algn="r"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entre for Digital Music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343080" indent="-328680" algn="r"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Queen Mary, University of London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360360" y="6948360"/>
            <a:ext cx="852480" cy="3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50280" cy="89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Collaborating... with yourself!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98" name=""/>
          <p:cNvSpPr/>
          <p:nvPr/>
        </p:nvSpPr>
        <p:spPr>
          <a:xfrm>
            <a:off x="360360" y="1957320"/>
            <a:ext cx="93502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45576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You need to run the same software on your laptop at home and the server in the lab: 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do you get the code onto both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do you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verify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that you have the same code on both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50280" cy="89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Collaborating with others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300" name=""/>
          <p:cNvSpPr/>
          <p:nvPr/>
        </p:nvSpPr>
        <p:spPr>
          <a:xfrm>
            <a:off x="360360" y="1957320"/>
            <a:ext cx="93502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45576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You're working on code or a paper with a colleague... 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do you find out when they change something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do you merge your changes without getting in a mess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can you find out which of you introduced a bug, and when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50280" cy="89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Version control helps with all this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302" name=""/>
          <p:cNvSpPr/>
          <p:nvPr/>
        </p:nvSpPr>
        <p:spPr>
          <a:xfrm>
            <a:off x="360360" y="1957320"/>
            <a:ext cx="93502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45576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But you do have to work a bit: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Tell it which files are part of your project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Tell it when you've changed something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If two people make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conflicting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changes, one of them has to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resolve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them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50280" cy="89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Version control terminology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304" name=""/>
          <p:cNvSpPr/>
          <p:nvPr/>
        </p:nvSpPr>
        <p:spPr>
          <a:xfrm>
            <a:off x="360360" y="1957320"/>
            <a:ext cx="93502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Repository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- the complete history of your project: every version of every file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Working copy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- the project as you're working on it now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Add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a file you want the system to track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Commit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to record a change, making a new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revision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Update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to make your working copy reflect a different revision from the repository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Push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or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pull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to synchronise copies of a repository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50280" cy="89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Managing work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306" name=""/>
          <p:cNvSpPr/>
          <p:nvPr/>
        </p:nvSpPr>
        <p:spPr>
          <a:xfrm>
            <a:off x="360360" y="1957320"/>
            <a:ext cx="93502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When should I start using version control for my project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Which files should I track in the repository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often should I commit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often should I push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50280" cy="89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Version control systems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308" name=""/>
          <p:cNvSpPr/>
          <p:nvPr/>
        </p:nvSpPr>
        <p:spPr>
          <a:xfrm>
            <a:off x="360360" y="1957320"/>
            <a:ext cx="93502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45576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Subversion: Centralised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one server, one repository database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every commit goes straight to the shared repository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Mercurial, git: Distributed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every working copy has complete repository in it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commits are local, then push/pull between computers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50280" cy="89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Further reading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310" name=""/>
          <p:cNvSpPr/>
          <p:nvPr/>
        </p:nvSpPr>
        <p:spPr>
          <a:xfrm>
            <a:off x="360360" y="1957320"/>
            <a:ext cx="93502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Why use version control?</a:t>
            </a:r>
            <a:br>
              <a:rPr sz="2600"/>
            </a:b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ttp://soundsoftware.ac.uk/why-version-control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A Mercurial tutorial (command-line)</a:t>
            </a:r>
            <a:br>
              <a:rPr sz="2600"/>
            </a:b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ttp://hginit.com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Bite-sized Mercurial</a:t>
            </a:r>
            <a:br>
              <a:rPr sz="2600"/>
            </a:b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ttp://petevidler.com/series/mercurial/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EasyMercurial videos</a:t>
            </a:r>
            <a:br>
              <a:rPr sz="2600"/>
            </a:b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ttp://easyhg.org/videos.html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Software Carpentry version control (Subversion)</a:t>
            </a:r>
            <a:br>
              <a:rPr sz="2600"/>
            </a:b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ttp://software-carpentry.org/4_0/vc/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A philosophical point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Much of this involves becoming more comfortable with the idea that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</a:rPr>
              <a:t>someone else will be looking at your cod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Documentation and unit testing become easier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ode reviews become possibl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Publication and peer review become less scary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Write code for a human reader, not just the computer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Even if you're working alone, have an imaginary reader in mind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Research software: The Question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7430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e442c"/>
                </a:solidFill>
                <a:latin typeface="Gillius ADF No2"/>
              </a:rPr>
              <a:t>“</a:t>
            </a:r>
            <a:r>
              <a:rPr b="0" lang="en-GB" sz="3200" spc="-1" strike="noStrike">
                <a:solidFill>
                  <a:srgbClr val="3e442c"/>
                </a:solidFill>
                <a:latin typeface="Gillius ADF No2"/>
              </a:rPr>
              <a:t>How do I</a:t>
            </a:r>
            <a:r>
              <a:rPr b="0" i="1" lang="en-GB" sz="3200" spc="-1" strike="noStrike">
                <a:solidFill>
                  <a:srgbClr val="3e442c"/>
                </a:solidFill>
                <a:latin typeface="Gillius ADF No2"/>
              </a:rPr>
              <a:t> </a:t>
            </a:r>
            <a:r>
              <a:rPr b="0" lang="en-GB" sz="3200" spc="-1" strike="noStrike">
                <a:solidFill>
                  <a:srgbClr val="3e442c"/>
                </a:solidFill>
                <a:latin typeface="Gillius ADF No2"/>
              </a:rPr>
              <a:t>know it does what I think it should?”</a:t>
            </a:r>
            <a:endParaRPr b="0" lang="en-US" sz="32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Validation and verification 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Validation: Establishing how well your model represents reality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Research papers are expected to do thi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Verification: Establishing that you have actually implemented the model you are describing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his is what formal software testing is abou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It's also what most informal good practice aims 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Research papers seldom do any of thi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“</a:t>
            </a: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Feedback cycle”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Write code → learn how code is wrong → fix cod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Much of current software development “best practice” is about trying to shorten or simplify this cycl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 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Levels of feedback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Outermost: Publication, peer review, user feedback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hen: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ontinuous integration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ode review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Unit testing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Pair programming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Innermost: Compiler errors (or IDE / interactive code environment)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ools to enable these: Version control; scripting for tests and experimental run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Which ones could I apply </a:t>
            </a:r>
            <a:r>
              <a:rPr b="1" i="1" lang="en-GB" sz="4400" spc="-1" strike="noStrike">
                <a:solidFill>
                  <a:srgbClr val="3e442c"/>
                </a:solidFill>
                <a:latin typeface="Gillius ADF No2"/>
              </a:rPr>
              <a:t>tomorrow</a:t>
            </a: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?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Outermost: Publication, peer review, user feedback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hen: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ontinuous integration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3e442c"/>
                </a:solidFill>
                <a:latin typeface="Gillius ADF No2"/>
              </a:rPr>
              <a:t>Code review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3e442c"/>
                </a:solidFill>
                <a:latin typeface="Gillius ADF No2"/>
              </a:rPr>
              <a:t>Unit testing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Pair programming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Innermost: Compiler errors (or IDE / interactive code environment)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ools to enable these: </a:t>
            </a:r>
            <a:r>
              <a:rPr b="1" lang="en-GB" sz="2600" spc="-1" strike="noStrike">
                <a:solidFill>
                  <a:srgbClr val="3e442c"/>
                </a:solidFill>
                <a:latin typeface="Gillius ADF No2"/>
              </a:rPr>
              <a:t>Version control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; </a:t>
            </a:r>
            <a:r>
              <a:rPr b="1" lang="en-GB" sz="2600" spc="-1" strike="noStrike">
                <a:solidFill>
                  <a:srgbClr val="3e442c"/>
                </a:solidFill>
                <a:latin typeface="Gillius ADF No2"/>
              </a:rPr>
              <a:t>scripting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 for tests and experimental run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We're going to cover...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Version contro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Unit testing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ode review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5320" cy="99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Version control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94" name=""/>
          <p:cNvSpPr/>
          <p:nvPr/>
        </p:nvSpPr>
        <p:spPr>
          <a:xfrm>
            <a:off x="360360" y="1957320"/>
            <a:ext cx="935532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54612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6368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Software to help keep track of changes made to files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54612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6368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54612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6368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Tracks the </a:t>
            </a:r>
            <a:r>
              <a:rPr b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istory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of your work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54612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6368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elps you </a:t>
            </a:r>
            <a:r>
              <a:rPr b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collaborate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with others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54612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6368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54612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6368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Popular examples include git, Mercurial, Subversion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54612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6368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52080" cy="8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Keeping track of history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96" name=""/>
          <p:cNvSpPr/>
          <p:nvPr/>
        </p:nvSpPr>
        <p:spPr>
          <a:xfrm>
            <a:off x="360360" y="1957320"/>
            <a:ext cx="935208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050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do you get back to that working version you had yesterday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050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do you get from "it's not working!" to understanding what went wrong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050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would you repeat the experiments from that journal paper you wrote last year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800280"/>
                <a:tab algn="l" pos="9050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800280"/>
                <a:tab algn="l" pos="9050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800280"/>
                <a:tab algn="l" pos="9050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800280"/>
                <a:tab algn="l" pos="9050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4:07:15Z</dcterms:created>
  <dc:creator>markp</dc:creator>
  <dc:description/>
  <dc:language>en-US</dc:language>
  <cp:lastModifiedBy>markp</cp:lastModifiedBy>
  <cp:lastPrinted>2012-06-17T19:33:56Z</cp:lastPrinted>
  <dcterms:modified xsi:type="dcterms:W3CDTF">2012-02-21T19:22:26Z</dcterms:modified>
  <cp:revision>43</cp:revision>
  <dc:subject/>
  <dc:title>Sustainable Software for Audio &amp; Music Research</dc:title>
</cp:coreProperties>
</file>