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3992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move the sli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dmponline.dcc.ac.uk/" TargetMode="External"/><Relationship Id="rId2" Type="http://schemas.openxmlformats.org/officeDocument/2006/relationships/slide" Target="../slides/slide28.xml"/><Relationship Id="rId3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hat source data was it based o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hat software was used to create the data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hat parameters were used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hat values did default parameters tak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hich version of the software wa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Don't rely on the “date created” for a file – this can change when files are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nstitutional research data policies usually st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Expected levels of data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Available infrastructure and support for data management e.g. institutional reposi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Project data management pl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ndicate how data will be managed during a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Can be created using DMP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Gillius ADF No2"/>
                <a:ea typeface="arial"/>
                <a:hlinkClick r:id="rId1"/>
              </a:rPr>
              <a:t>http://dmponline.dcc.ac.uk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5352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560480"/>
            <a:ext cx="935352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400" y="195696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56048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400" y="456048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1176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2960" y="1956960"/>
            <a:ext cx="301176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920" y="1956960"/>
            <a:ext cx="301176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560480"/>
            <a:ext cx="301176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2960" y="4560480"/>
            <a:ext cx="301176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920" y="4560480"/>
            <a:ext cx="301176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5352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53520" cy="498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64440" cy="498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400" y="1956960"/>
            <a:ext cx="4564440" cy="498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5352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400" y="1956960"/>
            <a:ext cx="4564440" cy="498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56048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64440" cy="498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400" y="195696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400" y="456048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400" y="1956960"/>
            <a:ext cx="456444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560480"/>
            <a:ext cx="9353520" cy="237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53520" cy="498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cap="sq"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cap="sq"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inyurl.com/8nogtm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tinyurl.com/993p6v6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inyurl.com/8c9m4bn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inyurl.com/876qza5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12720" y="4282920"/>
            <a:ext cx="70567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000" y="2160720"/>
            <a:ext cx="9358200" cy="144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ustainable Data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for Audio &amp; Music Research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60000" y="1956960"/>
            <a:ext cx="93582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teve Welbur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ere To Keep Your Data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Keeping copies of data in separate locations protects you from losing your data.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separate location could be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movable media (e.g. USB stick, DVD-R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network driv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 “the cloud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lthough it's easy to do backups on physical media, network backups usually provide a better service.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member that if you delete the local copy because you have a backup you are back to only one copy existing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ere To Keep Your Data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352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mmercial remote storage solutions (e.g. DropBox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heck the T&amp;Cs / SL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st mone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Not openly accessible on the web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No control over how data is store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No control over physical location of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isk of lock-i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andwidth restrictio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5352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JISC/DCC Curation In The Cloud :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Gillius ADF No2"/>
                <a:hlinkClick r:id="rId1"/>
              </a:rPr>
              <a:t>http://tinyurl.com/8nogtmv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ere To Keep Your Data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stitutional Network Storag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y be available alread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hould intend to support your research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y be difficult to find out about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chedule Backup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ackups are no use if they are out of dat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Get into the habit of backing up your data regularl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How regularly is your choic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How much work are you willing to risk losing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After your research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t the end of your research you should archive your data for long-term access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for follow-on research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 allow validation of your result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Archiving Data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352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BC Domesday Project (1986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roject to do a modern-day Domesday boo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sed “BBC Master” computers with data on laserdisc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llected 147,819 pages of text and 23,225 photo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edia expiring and obsolete technology put the data at risk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5352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mesday Reloaded (2011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quired emulation of softwar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mages restored from original master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395000" indent="-5342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http://www.bbc.co.uk/history/domesda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Lessons We Can Learn...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 allow long-term access to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n't use obscure formats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n't use obscure media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n't rely on technology being available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 keep original source material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Long-term Data Storag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56760" cy="503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isks wear out, and interfaces become obsolete so data should be copied to fresh media at interval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ld formats can become unusa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se open formats rather than closed format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fresh formats to ensure availabi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s is an effort! If possible, it's best to let someone else do it by placing your data in an archive which will deal with these issues for you.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Documen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4680" indent="-277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rchiving data allows it to be accessed at a later date, but if someone looks at your data will they understand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39640" indent="-551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y you created it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39640" indent="-551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the data is useful for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39640" indent="-551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column 27 in table 15 actually means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39640" indent="-551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How the data was created (e.g. which algorithm)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39640" indent="-551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the source data was on which this data is based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-277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f you return to your data to check something at the end of your research, will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you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understand the data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Documenting Data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2829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etadata (data about data) should be provided to describe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69160" indent="-5626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ents – what is the data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69160" indent="-5626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rpose – why is it useful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69160" indent="-5626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rovenance – how was the data created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69160" indent="-5626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License – how can it be used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69160" indent="-5626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udience – who might be interested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2240" indent="-2829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etadata does not need to be structured, a README file explaining the file contents is sufficient.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2240" indent="-2829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Keeping documentation with the data means it is readily availa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The Lost Laptop Problem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2010 Ponemon Institute report for Intel re. US laptop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n average, 2.3% of laptops assigned to employees are lost each yea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 education &amp; research that rises to 3.7%, with 10.8% of laptops being lost before the end of their useful life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(~3 years i.e. within 1 PhD of allocation!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Organis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File Nam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hould be meaningful and brief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hould not depend on the folder structur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86000" indent="-45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Files may be copied to different folder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xample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ad:    piano.wav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Good: sjw_e12_20120829_piano.wav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Organis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Folder Structur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folder should contain either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86000" indent="-45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ubfolder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86000" indent="-45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r a single type of file (e.g. code, data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f folders contain a single type of file, a general README can explain the content of each file in the fold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ublish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ata can be published through a project web-site, but a data repository is a better solution as it should have a longer lif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positories may be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stitutional i.e. location-specific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matic i.e. subject-specific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positories are intended to provide long-term storag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ata can be published in multiple repositories, but should have one identifier that is used to cite the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at to publish 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ata that will allow others to validate your research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ults which are summarised in a public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.g. the full data behind graphs, tables and statistic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ata for others to use in their research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New datasets which can be used to test new and existing algorithm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.g. annotations for audio datasets and new audio dataset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asons not to publish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nonymis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less previously agreed, people should not be identifiable from your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thical concer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.g. publishing bird song extracts live putting rare species at risk by revealing their loc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Licens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es the license for source data prevent you from publishing your data (e.g. use of CC-BY-SA data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ere to publish 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4680" indent="-277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stitutional repository – if one exists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-277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roject or research group web-sit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-277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Journal Supplementary Material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39640" indent="-551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.g. JASA, JNMR, CMJ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39640" indent="-551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heck T&amp;Cs – JASA ask for copyright to supplementary materials to be transferred to them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-277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eb archives – e.g. archive.org for audio fil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-277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data sites e.g. figshare.com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-277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alk to a librarian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Licensing Research Data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56760" cy="5348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marL="33840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f you don't supply a license, you reserve all rights to its us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3840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 is recommended that a Creative Commons CC0 waiver is used – this surrenders rights to the data as far as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3840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pyright does not exist on factual data itself, only on the “creative” part of the data – e.g. the layout of a spreadshee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3840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ttribution and Non-Commercial CC licenses may prevent people from using your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3840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Good research practice means that people should cite your data if it is use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3840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 (work in progress) Creative Commons 4.0 licenses aim to be more data friendly than the current CC 3.0 licens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384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ose data is it anyway 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hances are you do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no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own your research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Your contract may assign rights to everything you create as part of your research to your employer – including any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 data is probably owned by one of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Your institution / employ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n industry partn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 funding bod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f you carry out a survey or interviews, the participants will hold the copyright on their input – unless you get them to transfer the rights to you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licies and Principle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68640" indent="-280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re may be policies and principles which state what should be done with your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54400" indent="-5569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stitutiona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54400" indent="-5569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Fund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54400" indent="-5569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blish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8640" indent="-280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olicies and principles may cover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54400" indent="-5569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rivacy – are you allowed to publish data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54400" indent="-5569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blication – are you expected to publish data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54400" indent="-5569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positories – where should you publish data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54400" indent="-5569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Licenses – who should be allowed to access data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EPSRC Principle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7120" indent="-2714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 UK Engineering and Physical Sciences Research Council (EPSRC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Gillius ADF No2"/>
                <a:hlinkClick r:id="rId1"/>
              </a:rPr>
              <a:t>http://tinyurl.com/993p6v6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) states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09760" indent="-5400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ata should be freely available with as few restrictions as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09760" indent="-5400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ata should remain accessible and usable for future research (10 years after last use!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09760" indent="-5400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etadata should be available to enable reus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09760" indent="-5400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ults should say how to access the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09760" indent="-5400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sers should acknowledge the sources of their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09760" indent="-5400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ata management policies and plans should exis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The Lost Laptop Problem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2010 Ponemon Institute report for Intel re. US laptop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33% are lost in transit / while travell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43% otherwise lost off-sit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12% lost in the work-plac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12% couldn't sa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nly ~4% recovere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y similar results from 2011 European report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 u="sng">
                <a:solidFill>
                  <a:srgbClr val="ccccff"/>
                </a:solidFill>
                <a:uFillTx/>
                <a:latin typeface="Gillius ADF No2"/>
                <a:hlinkClick r:id="rId1"/>
              </a:rPr>
              <a:t>http://tinyurl.com/8c9m4b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Conclusion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e442c"/>
                </a:solidFill>
                <a:latin typeface="Gillius ADF No2"/>
                <a:ea typeface="arial"/>
              </a:rPr>
              <a:t>Data is fragile</a:t>
            </a:r>
            <a:endParaRPr b="0" lang="en-US" sz="28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e442c"/>
                </a:solidFill>
                <a:latin typeface="Gillius ADF No2"/>
                <a:ea typeface="arial"/>
              </a:rPr>
              <a:t>computers break</a:t>
            </a:r>
            <a:endParaRPr b="0" lang="en-US" sz="28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e442c"/>
                </a:solidFill>
                <a:latin typeface="Gillius ADF No2"/>
                <a:ea typeface="arial"/>
              </a:rPr>
              <a:t>media and formats become obsolete</a:t>
            </a:r>
            <a:endParaRPr b="0" lang="en-US" sz="28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e442c"/>
                </a:solidFill>
                <a:latin typeface="Gillius ADF No2"/>
                <a:ea typeface="arial"/>
              </a:rPr>
              <a:t>Without documentation, data becomes unusable</a:t>
            </a:r>
            <a:endParaRPr b="0" lang="en-US" sz="28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e442c"/>
                </a:solidFill>
                <a:latin typeface="Gillius ADF No2"/>
                <a:ea typeface="arial"/>
              </a:rPr>
              <a:t>Organising your data makes it more manageable</a:t>
            </a:r>
            <a:endParaRPr b="0" lang="en-US" sz="28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e442c"/>
                </a:solidFill>
                <a:latin typeface="Gillius ADF No2"/>
                <a:ea typeface="arial"/>
              </a:rPr>
              <a:t>Publish the data that validates your research</a:t>
            </a:r>
            <a:endParaRPr b="0" lang="en-US" sz="28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Laptop Reliability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4680" indent="-277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2011 PC World Laptop Reliability Survey from 63,000 readers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39640" indent="-551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22.6% had significant problems during the product's lifetim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39640" indent="-551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f which...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17240" indent="-442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19% had OS problems ~1 in 25 of all laptop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17240" indent="-442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18% had HDD problems ~1 in 25 of all laptop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17240" indent="-442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10% PSU problems ~1 in 50 of all laptop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1724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 u="sng">
                <a:solidFill>
                  <a:srgbClr val="ccccff"/>
                </a:solidFill>
                <a:uFillTx/>
                <a:latin typeface="Gillius ADF No2"/>
                <a:hlinkClick r:id="rId1"/>
              </a:rPr>
              <a:t>http://tinyurl.com/876qza5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646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More ways to lose data...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unning buggy code and overwriting your data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eleting a folder to salvage disk spac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eleting the wrong fi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Losing a USB sti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Forgetting to label DVDs 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irus att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isasters - fire, flood...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Letting other people use your comput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reserv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Given the number of ways you can lose data, you should take precautions to protect it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ill your data be available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en you need it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f someone else needs it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ere To Keep Your Data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Just a working copy on your laptop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if you run some buggy code and overwrite it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if you lose the laptop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if you break the laptop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860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860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High risk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ere To Keep Your Data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C + another copy on your laptop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if you run some buggy code and overwrite it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if you lose the laptop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if you break the laptop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860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860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Better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228600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rovides a backup if you corrupt your data.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676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ere To Keep Your Data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56760" cy="6073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C + a separate copy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(e.g. on another machine, on the 'net, on a removable drive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if you run some buggy code and overwrite it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if you lose the laptop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if you break the laptop 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Physically separate copies provide safe backups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n't keep your backup with your laptop as losing the laptop will then mean you've lost your backup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ke sure you can find the backup if you need it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428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57:44Z</dcterms:created>
  <dc:creator>Steve Welburn</dc:creator>
  <dc:description/>
  <dc:language>en-US</dc:language>
  <cp:lastModifiedBy>Steve Welburn</cp:lastModifiedBy>
  <dcterms:modified xsi:type="dcterms:W3CDTF">2012-09-17T14:14:00Z</dcterms:modified>
  <cp:revision>225</cp:revision>
  <dc:subject/>
  <dc:title>Analysis and Transcription of Musical Audio Signals</dc:title>
</cp:coreProperties>
</file>