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2AF1-C978-405B-85E0-20ED8832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4DB5-86F6-45D7-B5B8-B281AD05D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CF87-A21D-47EE-A174-DB81020D5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4678-77AA-4600-9619-3DCC7D4B7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360D6-CDB3-4A65-8EF9-477850BFC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4A17-7EB3-4CEB-9D34-29D02919B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F3C8-D702-4FDE-929D-EEBEF0AEE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7F00-DF08-4E34-9244-6B073F8AC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B9C9-3F52-4A1D-AAA1-DF1F9531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6BEF-C5EC-4F4D-8D19-F13538DA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DCCB-692C-4510-A719-996E9F45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499A-F6AE-4ED9-A3CB-FC477DDD9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43FFD-01D0-4518-9CB9-13DB43B3939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773000"/>
            <a:ext cx="7772400" cy="182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The efferent system and our response to loud soun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Ray Medd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Essex Univers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3"/>
          <p:cNvSpPr/>
          <p:nvPr/>
        </p:nvSpPr>
        <p:spPr>
          <a:xfrm>
            <a:off x="2044800" y="5732640"/>
            <a:ext cx="505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ology Department, Royal surrey county Hospi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3. LOC Lateral-olivocochlear refle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system is not well understo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onsists of descending fibers that make contact with the auditory nerve close to IHC but post-synapti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can be both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</a:rPr>
              <a:t>excitatory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 and inhibitory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p to 6 different neuro-transmitters may be involv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Largely mysterious but potentially very importa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4. Instantaneous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asilar membrane (BM) response is linear up to about 20 dB S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bove 20 dB SL, severe compression appl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2 dB output for 10 dB inp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is effect depends on the integrity of outer hair cells (OHC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t is lost in some types of sensory neural impair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289720" cy="5040360"/>
          </a:xfrm>
          <a:prstGeom prst="rect">
            <a:avLst/>
          </a:prstGeom>
          <a:ln w="0">
            <a:noFill/>
          </a:ln>
        </p:spPr>
      </p:pic>
      <p:sp>
        <p:nvSpPr>
          <p:cNvPr id="99" name="TextBox 4"/>
          <p:cNvSpPr/>
          <p:nvPr/>
        </p:nvSpPr>
        <p:spPr>
          <a:xfrm>
            <a:off x="81000" y="260280"/>
            <a:ext cx="90230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ree ways in which hearing impairment may affect compre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(Plack and Lopez-Poveda 2004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643280" y="3573360"/>
            <a:ext cx="4176720" cy="24480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5. Inner hair cell (IHC) compres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ceptor potential operates in a narrow range (say 30 mV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HC receptor potential is approximately linear up to 70 dB SPL then it hits a ceil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verely compressed above th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f gain is reduced in impairment, the ceiling may never be reached and the response will be linear throughou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6. Brainstem inhib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rojection neurons in cochlear nucleus (CN) are subject to inhib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n-frequency (narrow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Has been linked with echo-suppress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Off-frequency (wideband inhibitio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ay be useful in noisy environ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nhibition may be less active with age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unction 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debate continues but possibilities inclu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eeping the system response within some useful operating rang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useful at cocktail parties, conference dinn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inhibiting unwanted sounds, e.g. Swallowing, coughing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Wideband suppress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tten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elective atten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9000" indent="-245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(? Narrowband suppression and excit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are many process that regulate the strength of the response to s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Most are suppress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re is a lot to go wrong. In a feedback loop the problem can lie either 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By failure of a system compon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As the result of a failure of the input to the feedback loop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Auditory self reg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57200" y="1599840"/>
            <a:ext cx="8229600" cy="31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response of the auditory system to sounds is self-regulat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uses a range of different systems  to achieve thi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ailure of any one of these systems could affect how aversive sounds will 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sponse limiting sys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These regulating systems include th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Acoustic reflex (AR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Medial-olivocochlear (M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ateral-olivocochlear (LOC) refle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stantaneous compression of mechanical respons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nner hair cell (IHC) receptor potential voltage limi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Various brainstem inhibition syste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... and possibly a few other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Straight Arrow Connector 42"/>
          <p:cNvCxnSpPr>
            <a:stCxn id="49" idx="6"/>
          </p:cNvCxnSpPr>
          <p:nvPr/>
        </p:nvCxnSpPr>
        <p:spPr>
          <a:xfrm>
            <a:off x="1595160" y="3181320"/>
            <a:ext cx="6864840" cy="32400"/>
          </a:xfrm>
          <a:prstGeom prst="straightConnector1">
            <a:avLst/>
          </a:prstGeom>
          <a:ln w="38160">
            <a:solidFill>
              <a:srgbClr val="4f81bd"/>
            </a:solidFill>
            <a:prstDash val="sysDash"/>
            <a:miter/>
            <a:tailEnd len="med" type="arrow" w="med"/>
          </a:ln>
        </p:spPr>
      </p:cxnSp>
      <p:sp>
        <p:nvSpPr>
          <p:cNvPr id="49" name="Oval 3"/>
          <p:cNvSpPr/>
          <p:nvPr/>
        </p:nvSpPr>
        <p:spPr>
          <a:xfrm>
            <a:off x="250920" y="2820960"/>
            <a:ext cx="134460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middle e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4"/>
          <p:cNvSpPr/>
          <p:nvPr/>
        </p:nvSpPr>
        <p:spPr>
          <a:xfrm>
            <a:off x="1908000" y="2749680"/>
            <a:ext cx="1751040" cy="863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asilar membra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5"/>
          <p:cNvSpPr/>
          <p:nvPr/>
        </p:nvSpPr>
        <p:spPr>
          <a:xfrm>
            <a:off x="4716360" y="2892600"/>
            <a:ext cx="1440000" cy="57600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Auditory ne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6"/>
          <p:cNvSpPr/>
          <p:nvPr/>
        </p:nvSpPr>
        <p:spPr>
          <a:xfrm>
            <a:off x="6516720" y="2820960"/>
            <a:ext cx="1584360" cy="720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brain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Elbow Connector 8"/>
          <p:cNvCxnSpPr>
            <a:stCxn id="52" idx="0"/>
            <a:endCxn id="49" idx="0"/>
          </p:cNvCxnSpPr>
          <p:nvPr/>
        </p:nvCxnSpPr>
        <p:spPr>
          <a:xfrm flipV="1" rot="16200000">
            <a:off x="4115880" y="-372240"/>
            <a:ext cx="2160" cy="6387480"/>
          </a:xfrm>
          <a:prstGeom prst="bentConnector3">
            <a:avLst>
              <a:gd name="adj1" fmla="val 44980000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Elbow Connector 11"/>
          <p:cNvCxnSpPr>
            <a:stCxn id="52" idx="1"/>
            <a:endCxn id="50" idx="0"/>
          </p:cNvCxnSpPr>
          <p:nvPr/>
        </p:nvCxnSpPr>
        <p:spPr>
          <a:xfrm flipV="1" rot="16200000">
            <a:off x="4677120" y="853920"/>
            <a:ext cx="176760" cy="3966480"/>
          </a:xfrm>
          <a:prstGeom prst="bentConnector3">
            <a:avLst>
              <a:gd name="adj1" fmla="val 22897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5" name="Elbow Connector 24"/>
          <p:cNvCxnSpPr>
            <a:stCxn id="52" idx="3"/>
            <a:endCxn id="51" idx="4"/>
          </p:cNvCxnSpPr>
          <p:nvPr/>
        </p:nvCxnSpPr>
        <p:spPr>
          <a:xfrm rot="5400000">
            <a:off x="6074640" y="2795400"/>
            <a:ext cx="33840" cy="1313640"/>
          </a:xfrm>
          <a:prstGeom prst="bentConnector3">
            <a:avLst>
              <a:gd name="adj1" fmla="val 997849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6" name="Oval 35"/>
          <p:cNvSpPr/>
          <p:nvPr/>
        </p:nvSpPr>
        <p:spPr>
          <a:xfrm>
            <a:off x="3851280" y="2708280"/>
            <a:ext cx="1008000" cy="944640"/>
          </a:xfrm>
          <a:prstGeom prst="ellipse">
            <a:avLst/>
          </a:prstGeom>
          <a:solidFill>
            <a:srgbClr val="e6b9b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Inner hair 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Elbow Connector 38"/>
          <p:cNvCxnSpPr/>
          <p:nvPr/>
        </p:nvCxnSpPr>
        <p:spPr>
          <a:xfrm rot="5400000">
            <a:off x="3142440" y="3240720"/>
            <a:ext cx="106920" cy="559080"/>
          </a:xfrm>
          <a:prstGeom prst="bentConnector3">
            <a:avLst>
              <a:gd name="adj1" fmla="val 423986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Regulatory loop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9" name="Elbow Connector 50"/>
          <p:cNvCxnSpPr>
            <a:endCxn id="51" idx="3"/>
          </p:cNvCxnSpPr>
          <p:nvPr/>
        </p:nvCxnSpPr>
        <p:spPr>
          <a:xfrm rot="10800000">
            <a:off x="4926960" y="3384000"/>
            <a:ext cx="1821600" cy="45000"/>
          </a:xfrm>
          <a:prstGeom prst="bentConnector4">
            <a:avLst>
              <a:gd name="adj1" fmla="val 16248"/>
              <a:gd name="adj2" fmla="val -1025806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Elbow Connector 54"/>
          <p:cNvCxnSpPr/>
          <p:nvPr/>
        </p:nvCxnSpPr>
        <p:spPr>
          <a:xfrm>
            <a:off x="826560" y="486900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1" name="Elbow Connector 58"/>
          <p:cNvCxnSpPr/>
          <p:nvPr/>
        </p:nvCxnSpPr>
        <p:spPr>
          <a:xfrm>
            <a:off x="826560" y="5443560"/>
            <a:ext cx="1008720" cy="2160"/>
          </a:xfrm>
          <a:prstGeom prst="bentConnector3">
            <a:avLst>
              <a:gd name="adj1" fmla="val 49982"/>
            </a:avLst>
          </a:prstGeom>
          <a:ln w="381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2" name="TextBox 59"/>
          <p:cNvSpPr/>
          <p:nvPr/>
        </p:nvSpPr>
        <p:spPr>
          <a:xfrm>
            <a:off x="1983240" y="4724280"/>
            <a:ext cx="1275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uppress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excita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1125720" y="170028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19"/>
          <p:cNvSpPr/>
          <p:nvPr/>
        </p:nvSpPr>
        <p:spPr>
          <a:xfrm>
            <a:off x="2851560" y="21240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MO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0"/>
          <p:cNvSpPr/>
          <p:nvPr/>
        </p:nvSpPr>
        <p:spPr>
          <a:xfrm>
            <a:off x="4726080" y="4140360"/>
            <a:ext cx="227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LOC effer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1"/>
          <p:cNvSpPr/>
          <p:nvPr/>
        </p:nvSpPr>
        <p:spPr>
          <a:xfrm>
            <a:off x="2205000" y="406728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2"/>
          <p:cNvSpPr/>
          <p:nvPr/>
        </p:nvSpPr>
        <p:spPr>
          <a:xfrm>
            <a:off x="7120440" y="4140360"/>
            <a:ext cx="107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inhib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Elbow Connector 23"/>
          <p:cNvCxnSpPr/>
          <p:nvPr/>
        </p:nvCxnSpPr>
        <p:spPr>
          <a:xfrm rot="5400000">
            <a:off x="7623360" y="3202200"/>
            <a:ext cx="106920" cy="559800"/>
          </a:xfrm>
          <a:prstGeom prst="bentConnector3">
            <a:avLst>
              <a:gd name="adj1" fmla="val 316554"/>
            </a:avLst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TextBox 31"/>
          <p:cNvSpPr/>
          <p:nvPr/>
        </p:nvSpPr>
        <p:spPr>
          <a:xfrm>
            <a:off x="3520800" y="3780000"/>
            <a:ext cx="14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1. acoustic reflex proper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7139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ction begins above 6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Strongest for broadban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ttenuation can be as great as 1 dB/dB above 80 dB SPL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AR motor neurons are broadly tuned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Operation is relatively slow by acoustic standards (30+ ms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Probably a protection against sustained loud sound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</a:rPr>
              <a:t>May compute overall environment sound intensit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rcRect l="52850" t="17347" r="12838" b="20640"/>
          <a:stretch/>
        </p:blipFill>
        <p:spPr>
          <a:xfrm>
            <a:off x="1476360" y="2050920"/>
            <a:ext cx="2479680" cy="2521080"/>
          </a:xfrm>
          <a:prstGeom prst="rect">
            <a:avLst/>
          </a:prstGeom>
          <a:ln w="0">
            <a:noFill/>
          </a:ln>
        </p:spPr>
      </p:pic>
      <p:sp>
        <p:nvSpPr>
          <p:cNvPr id="73" name="TextBox 5"/>
          <p:cNvSpPr/>
          <p:nvPr/>
        </p:nvSpPr>
        <p:spPr>
          <a:xfrm>
            <a:off x="2633040" y="4716360"/>
            <a:ext cx="6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6"/>
          <p:cNvSpPr/>
          <p:nvPr/>
        </p:nvSpPr>
        <p:spPr>
          <a:xfrm rot="16200000">
            <a:off x="383400" y="2988000"/>
            <a:ext cx="21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2"/>
          <a:srcRect l="27945" t="27190" r="32209" b="9813"/>
          <a:stretch/>
        </p:blipFill>
        <p:spPr>
          <a:xfrm>
            <a:off x="5192640" y="1979640"/>
            <a:ext cx="2835360" cy="2519280"/>
          </a:xfrm>
          <a:prstGeom prst="rect">
            <a:avLst/>
          </a:prstGeom>
          <a:ln w="0">
            <a:noFill/>
          </a:ln>
        </p:spPr>
      </p:pic>
      <p:sp>
        <p:nvSpPr>
          <p:cNvPr id="76" name="TextBox 8"/>
          <p:cNvSpPr/>
          <p:nvPr/>
        </p:nvSpPr>
        <p:spPr>
          <a:xfrm>
            <a:off x="6016320" y="464328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ime (mse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9"/>
          <p:cNvSpPr/>
          <p:nvPr/>
        </p:nvSpPr>
        <p:spPr>
          <a:xfrm rot="16200000">
            <a:off x="3614400" y="2876040"/>
            <a:ext cx="21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mpedenc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% of maxim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0"/>
          <p:cNvSpPr/>
          <p:nvPr/>
        </p:nvSpPr>
        <p:spPr>
          <a:xfrm>
            <a:off x="3141720" y="549360"/>
            <a:ext cx="16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oustic refl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1"/>
          <p:cNvSpPr/>
          <p:nvPr/>
        </p:nvSpPr>
        <p:spPr>
          <a:xfrm>
            <a:off x="2216880" y="170028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igh threshold                            relatively s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3273480" y="5661000"/>
            <a:ext cx="243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ung and Dallos 197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0"/>
          <p:cNvSpPr/>
          <p:nvPr/>
        </p:nvSpPr>
        <p:spPr>
          <a:xfrm>
            <a:off x="7382880" y="2637000"/>
            <a:ext cx="913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0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1"/>
          <p:cNvSpPr/>
          <p:nvPr/>
        </p:nvSpPr>
        <p:spPr>
          <a:xfrm>
            <a:off x="5576760" y="2205000"/>
            <a:ext cx="99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15 dB SP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alibri"/>
              </a:rPr>
              <a:t>2. MOC suppression of BM respons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cts is through outer hair cells (OHCs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f OHC is dysfunctional, this cannot operat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Begins to operate close to hearing thresho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Narrowly tuned (compared to AR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ocal operation (source and target basilar membrane (BM) regions overlap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controlled by from inferior colliculus (I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e.g. triggering in anticipation (e.g. Swallowing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ontralateral as well as ipsilateral effe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"/>
          <p:cNvPicPr/>
          <p:nvPr/>
        </p:nvPicPr>
        <p:blipFill>
          <a:blip r:embed="rId1"/>
          <a:srcRect l="8021" t="15374" r="49366" b="6250"/>
          <a:stretch/>
        </p:blipFill>
        <p:spPr>
          <a:xfrm>
            <a:off x="2143080" y="404640"/>
            <a:ext cx="2438280" cy="2519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rcRect l="9128" t="14390" r="49366" b="13750"/>
          <a:stretch/>
        </p:blipFill>
        <p:spPr>
          <a:xfrm>
            <a:off x="5891040" y="404640"/>
            <a:ext cx="2589480" cy="25196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"/>
          <p:cNvPicPr/>
          <p:nvPr/>
        </p:nvPicPr>
        <p:blipFill>
          <a:blip r:embed="rId3"/>
          <a:srcRect l="8575" t="13406" r="49366" b="11781"/>
          <a:stretch/>
        </p:blipFill>
        <p:spPr>
          <a:xfrm>
            <a:off x="2216160" y="3860640"/>
            <a:ext cx="2519280" cy="252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"/>
          <p:cNvPicPr/>
          <p:nvPr/>
        </p:nvPicPr>
        <p:blipFill>
          <a:blip r:embed="rId4"/>
          <a:stretch/>
        </p:blipFill>
        <p:spPr>
          <a:xfrm>
            <a:off x="5927760" y="3860640"/>
            <a:ext cx="2984400" cy="2521080"/>
          </a:xfrm>
          <a:prstGeom prst="rect">
            <a:avLst/>
          </a:prstGeom>
          <a:ln w="0">
            <a:noFill/>
          </a:ln>
        </p:spPr>
      </p:pic>
      <p:sp>
        <p:nvSpPr>
          <p:cNvPr id="89" name="TextBox 5"/>
          <p:cNvSpPr/>
          <p:nvPr/>
        </p:nvSpPr>
        <p:spPr>
          <a:xfrm>
            <a:off x="2738160" y="44280"/>
            <a:ext cx="516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resholds                                       tuning cur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6"/>
          <p:cNvSpPr/>
          <p:nvPr/>
        </p:nvSpPr>
        <p:spPr>
          <a:xfrm>
            <a:off x="2781000" y="3419640"/>
            <a:ext cx="64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ate/ level                              basilar membrane displac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7"/>
          <p:cNvSpPr/>
          <p:nvPr/>
        </p:nvSpPr>
        <p:spPr>
          <a:xfrm>
            <a:off x="259920" y="2924280"/>
            <a:ext cx="282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C effer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9"/>
          <p:cNvSpPr/>
          <p:nvPr/>
        </p:nvSpPr>
        <p:spPr>
          <a:xfrm>
            <a:off x="2557800" y="6516720"/>
            <a:ext cx="630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iberman (1988)                          Russel and Murugasu 199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"/>
          <p:cNvPicPr/>
          <p:nvPr/>
        </p:nvPicPr>
        <p:blipFill>
          <a:blip r:embed="rId1"/>
          <a:stretch/>
        </p:blipFill>
        <p:spPr>
          <a:xfrm>
            <a:off x="1943280" y="504720"/>
            <a:ext cx="5257800" cy="58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15:32:05Z</dcterms:created>
  <dc:creator>rmeddis</dc:creator>
  <dc:description/>
  <dc:language>en-US</dc:language>
  <cp:lastModifiedBy>rmeddis</cp:lastModifiedBy>
  <dcterms:modified xsi:type="dcterms:W3CDTF">2010-11-12T16:24:57Z</dcterms:modified>
  <cp:revision>25</cp:revision>
  <dc:subject/>
  <dc:title>The efferent system and our response to loud sounds</dc:title>
</cp:coreProperties>
</file>