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1A8-615E-45F8-8DEE-7A7CB269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87C-011F-4F3D-8A72-7AE3E1DF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EB0-066F-42EE-9454-42CB69BB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BA8-40B7-43E6-B0F4-183C7128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959-0D89-4F9B-9FF6-21081A9B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1A9-3F31-45BA-B29B-B2830848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220-B307-415F-BF4F-35E220E9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A2A-FC50-4DE5-97F8-6CE9D7A8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E37-2531-474F-94CB-B6C29B2D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4A2-3C2E-4FE7-BC70-6400219E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D51-F9A8-4652-A5F6-3AB61DAC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849-7CA6-4177-AE5D-992D3262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DB49-F8D4-4CC9-B079-602C0F8A1D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efferent system and our response to loud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Essex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044800" y="573264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ology Department, Royal surrey county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. LOC Lateral-olivocochlear ref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system is not well underst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sists of descending fibers that make contact with the auditory nerve close to IHC but post-synap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be both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excitator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inhibi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p to 6 different neuro-transmitters may be invol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rgely mysterious but potentially ver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. Instantaneous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silar membrane (BM) response is linear up to about 20 dB S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ove 20 dB SL, severe compression ap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 dB output for 10 dB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effect depends on the integrity of outer hair cells (OH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lost in some types of sensory neural impai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28972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81000" y="260280"/>
            <a:ext cx="902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ways in which hearing impairment may affect com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Plack and Lopez-Poveda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43280" y="3573360"/>
            <a:ext cx="4176720" cy="24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. Inner hair cell (IHC)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ceptor potential operates in a narrow range (say 30 m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HC receptor potential is approximately linear up to 70 dB SPL then it hits a ce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verely compressed above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f gain is reduced in impairment, the ceiling may never be reached and the response will be linear through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. Brainstem in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jection neurons in cochlear nucleus (CN) are subject to in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-frequency (narrow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s been linked with echo-sup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f-frequency (wide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y be useful in noisy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hibition may be less active with age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unction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debate continues but possibilities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eping the system response within some useful operating r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ful at cocktail parties, conference din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ibiting unwanted sounds, e.g. Swallowing, cough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Wideband suppres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ten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ective atten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Narrowband suppression and exci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many process that regulate the strength of the response to s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st are suppre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to go wrong. In a feedback loop the problem can lie either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y failure of a system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s the result of a failure of the input to the feedback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ditory self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of the auditory system to sounds is self-regula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uses a range of different systems  to achieve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ilure of any one of these systems could affect how aversive sounds will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limit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se regulating systems include t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oustic reflex (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edial-olivocochlear (M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ateral-olivocochlear (L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stantaneous compression of mechanical respon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ner hair cell (IHC) receptor potential voltage lim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arious brainstem inhibition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... and possibly a few oth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Straight Arrow Connector 42"/>
          <p:cNvCxnSpPr>
            <a:stCxn id="49" idx="6"/>
          </p:cNvCxnSpPr>
          <p:nvPr/>
        </p:nvCxnSpPr>
        <p:spPr>
          <a:xfrm>
            <a:off x="1595160" y="3181320"/>
            <a:ext cx="6864840" cy="32400"/>
          </a:xfrm>
          <a:prstGeom prst="straightConnector1">
            <a:avLst/>
          </a:prstGeom>
          <a:ln w="38160">
            <a:solidFill>
              <a:srgbClr val="4f81bd"/>
            </a:solidFill>
            <a:prstDash val="sysDash"/>
            <a:miter/>
            <a:tailEnd len="med" type="arrow" w="med"/>
          </a:ln>
        </p:spPr>
      </p:cxnSp>
      <p:sp>
        <p:nvSpPr>
          <p:cNvPr id="49" name="Oval 3"/>
          <p:cNvSpPr/>
          <p:nvPr/>
        </p:nvSpPr>
        <p:spPr>
          <a:xfrm>
            <a:off x="250920" y="2820960"/>
            <a:ext cx="134460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ddle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908000" y="2749680"/>
            <a:ext cx="1751040" cy="863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asil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4716360" y="2892600"/>
            <a:ext cx="144000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6516720" y="2820960"/>
            <a:ext cx="158436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rain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Elbow Connector 8"/>
          <p:cNvCxnSpPr>
            <a:stCxn id="52" idx="0"/>
            <a:endCxn id="49" idx="0"/>
          </p:cNvCxnSpPr>
          <p:nvPr/>
        </p:nvCxnSpPr>
        <p:spPr>
          <a:xfrm flipV="1" rot="16200000">
            <a:off x="4115880" y="-372240"/>
            <a:ext cx="2160" cy="6387480"/>
          </a:xfrm>
          <a:prstGeom prst="bentConnector3">
            <a:avLst>
              <a:gd name="adj1" fmla="val 44980000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Elbow Connector 11"/>
          <p:cNvCxnSpPr>
            <a:stCxn id="52" idx="1"/>
            <a:endCxn id="50" idx="0"/>
          </p:cNvCxnSpPr>
          <p:nvPr/>
        </p:nvCxnSpPr>
        <p:spPr>
          <a:xfrm flipV="1" rot="16200000">
            <a:off x="4677120" y="853920"/>
            <a:ext cx="176760" cy="3966480"/>
          </a:xfrm>
          <a:prstGeom prst="bentConnector3">
            <a:avLst>
              <a:gd name="adj1" fmla="val 22897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Elbow Connector 24"/>
          <p:cNvCxnSpPr>
            <a:stCxn id="52" idx="3"/>
            <a:endCxn id="51" idx="4"/>
          </p:cNvCxnSpPr>
          <p:nvPr/>
        </p:nvCxnSpPr>
        <p:spPr>
          <a:xfrm rot="5400000">
            <a:off x="6074640" y="2795400"/>
            <a:ext cx="33840" cy="1313640"/>
          </a:xfrm>
          <a:prstGeom prst="bentConnector3">
            <a:avLst>
              <a:gd name="adj1" fmla="val 99784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Oval 35"/>
          <p:cNvSpPr/>
          <p:nvPr/>
        </p:nvSpPr>
        <p:spPr>
          <a:xfrm>
            <a:off x="3851280" y="2708280"/>
            <a:ext cx="1008000" cy="944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er hai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Elbow Connector 38"/>
          <p:cNvCxnSpPr/>
          <p:nvPr/>
        </p:nvCxnSpPr>
        <p:spPr>
          <a:xfrm rot="5400000">
            <a:off x="3142440" y="3240720"/>
            <a:ext cx="106920" cy="559080"/>
          </a:xfrm>
          <a:prstGeom prst="bentConnector3">
            <a:avLst>
              <a:gd name="adj1" fmla="val 423986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gulatory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Elbow Connector 50"/>
          <p:cNvCxnSpPr>
            <a:endCxn id="51" idx="3"/>
          </p:cNvCxnSpPr>
          <p:nvPr/>
        </p:nvCxnSpPr>
        <p:spPr>
          <a:xfrm rot="10800000">
            <a:off x="4926960" y="3384000"/>
            <a:ext cx="1821600" cy="45000"/>
          </a:xfrm>
          <a:prstGeom prst="bentConnector4">
            <a:avLst>
              <a:gd name="adj1" fmla="val 16248"/>
              <a:gd name="adj2" fmla="val -1025806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Elbow Connector 54"/>
          <p:cNvCxnSpPr/>
          <p:nvPr/>
        </p:nvCxnSpPr>
        <p:spPr>
          <a:xfrm>
            <a:off x="826560" y="486900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Elbow Connector 58"/>
          <p:cNvCxnSpPr/>
          <p:nvPr/>
        </p:nvCxnSpPr>
        <p:spPr>
          <a:xfrm>
            <a:off x="826560" y="544356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59"/>
          <p:cNvSpPr/>
          <p:nvPr/>
        </p:nvSpPr>
        <p:spPr>
          <a:xfrm>
            <a:off x="1983240" y="4724280"/>
            <a:ext cx="12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pp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cit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1125720" y="17002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2851560" y="21240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4726080" y="414036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OC effer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205000" y="40672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7120440" y="4140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hib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Elbow Connector 23"/>
          <p:cNvCxnSpPr/>
          <p:nvPr/>
        </p:nvCxnSpPr>
        <p:spPr>
          <a:xfrm rot="5400000">
            <a:off x="7623360" y="3202200"/>
            <a:ext cx="106920" cy="559800"/>
          </a:xfrm>
          <a:prstGeom prst="bentConnector3">
            <a:avLst>
              <a:gd name="adj1" fmla="val 316554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TextBox 31"/>
          <p:cNvSpPr/>
          <p:nvPr/>
        </p:nvSpPr>
        <p:spPr>
          <a:xfrm>
            <a:off x="3520800" y="3780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acoustic reflex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ction begins above 6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ongest for broadban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ttenuation can be as great as 1 dB/dB above 8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R motor neurons are broadly tun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peration is relatively slow by acoustic standards (30+ m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ably a protection against sustained lou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y compute overall environment sound intens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52850" t="17347" r="12838" b="20640"/>
          <a:stretch/>
        </p:blipFill>
        <p:spPr>
          <a:xfrm>
            <a:off x="1476360" y="2050920"/>
            <a:ext cx="247968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2633040" y="47163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 rot="16200000">
            <a:off x="383400" y="29880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27945" t="27190" r="32209" b="9813"/>
          <a:stretch/>
        </p:blipFill>
        <p:spPr>
          <a:xfrm>
            <a:off x="5192640" y="1979640"/>
            <a:ext cx="283536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6016320" y="46432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(m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 rot="16200000">
            <a:off x="3614400" y="287604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of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3141720" y="549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2216880" y="170028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threshold                            relatively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3273480" y="56610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ng and Dallos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382880" y="26370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5576760" y="220500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5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. MOC suppression of BM respon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cts is through outer hair cells (OHC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OHC is dysfunctional, this cannot ope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egins to operate close to hearing thresh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arrowly tuned (compared to A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ocal operation (source and target basilar membrane (BM) regions overl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n be controlled by from inferior colliculus (I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.g. triggering in anticipation (e.g. Swallow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8021" t="15374" r="49366" b="6250"/>
          <a:stretch/>
        </p:blipFill>
        <p:spPr>
          <a:xfrm>
            <a:off x="2143080" y="404640"/>
            <a:ext cx="2438280" cy="251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rcRect l="9128" t="14390" r="49366" b="13750"/>
          <a:stretch/>
        </p:blipFill>
        <p:spPr>
          <a:xfrm>
            <a:off x="5891040" y="404640"/>
            <a:ext cx="2589480" cy="251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rcRect l="8575" t="13406" r="49366" b="11781"/>
          <a:stretch/>
        </p:blipFill>
        <p:spPr>
          <a:xfrm>
            <a:off x="2216160" y="3860640"/>
            <a:ext cx="251928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5927760" y="3860640"/>
            <a:ext cx="2984400" cy="2521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738160" y="4428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sholds                                       tuning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781000" y="3419640"/>
            <a:ext cx="64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/ level                              basilar membrane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59920" y="292428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C effe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557800" y="6516720"/>
            <a:ext cx="63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berman (1988)                          Russel and Murugasu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943280" y="504720"/>
            <a:ext cx="5257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5:32:05Z</dcterms:created>
  <dc:creator>rmeddis</dc:creator>
  <dc:description/>
  <dc:language>en-US</dc:language>
  <cp:lastModifiedBy>rmeddis</cp:lastModifiedBy>
  <dcterms:modified xsi:type="dcterms:W3CDTF">2010-11-12T16:24:57Z</dcterms:modified>
  <cp:revision>25</cp:revision>
  <dc:subject/>
  <dc:title>The efferent system and our response to loud sounds</dc:title>
</cp:coreProperties>
</file>