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7BF-A720-47BC-8438-8CD0CEB5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E836-6A93-4499-8875-50511689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8B44-881A-4944-8773-2DE85ED8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713D-DB34-44BD-A550-5A2388E2A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CEB6-3164-403B-A364-E97639E3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1953-A265-4C33-834B-E2DA2602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D619-60D1-4B8F-8056-E4C0AC0A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5F6-E437-4A8E-BC79-63AAEB69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97F-E3C7-4D3F-9961-ECF63E50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9CEC-5199-41C8-8F7D-EC06F649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5501-3EF1-4200-B89A-92FA5017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C47E-D51A-4496-9E34-0C5E0E29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13AE-F72F-4F8D-8BD3-D3EC7B41ED4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8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efferent system and our response to loud s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ay Medd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Essex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044800" y="5732640"/>
            <a:ext cx="50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udiology Department, Royal surrey county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. LOC Lateral-olivocochlear refl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system is not well underst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onsists of descending fibers that make contact with the auditory nerve close to IHC but post-synapt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an be both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excitator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inhibito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p to 6 different neuro-transmitters may be invol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rgely mysterious but potentially very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4. Instantaneous comp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asilar membrane (BM) response is linear up to about 20 dB S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bove 20 dB SL, severe compression app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 dB output for 10 dB in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effect depends on the integrity of outer hair cells (OH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t is lost in some types of sensory neural impair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289720" cy="50403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81000" y="260280"/>
            <a:ext cx="902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ways in which hearing impairment may affect com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Plack and Lopez-Poveda 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643280" y="3573360"/>
            <a:ext cx="4176720" cy="244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5. Inner hair cell (IHC) comp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ceptor potential operates in a narrow range (say 30 m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HC receptor potential is approximately linear up to 70 dB SPL then it hits a cei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verely compressed above t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f gain is reduced in impairment, the ceiling may never be reached and the response will be linear through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6. Brainstem inhib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jection neurons in cochlear nucleus (CN) are subject to inhib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n-frequency (narrowband inhibi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s been linked with echo-sup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ff-frequency (wideband inhibi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y be useful in noisy enviro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hibition may be less active with age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unction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debate continues but possibilities in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eeping the system response within some useful operating ran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ful at cocktail parties, conference din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ibiting unwanted sounds, e.g. Swallowing, coughin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? Wideband suppress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tten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lective atten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? Narrowband suppression and exci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are many process that regulate the strength of the response to s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st are suppres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is a lot to go wrong. In a feedback loop the problem can lie either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y failure of a system 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s the result of a failure of the input to the feedback lo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uditory self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of the auditory system to sounds is self-regula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uses a range of different systems  to achieve th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ailure of any one of these systems could affect how aversive sounds will 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ponse limiting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se regulating systems include t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oustic reflex (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edial-olivocochlear (MOC) refle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ateral-olivocochlear (LOC) refle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stantaneous compression of mechanical respon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ner hair cell (IHC) receptor potential voltage lim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Various brainstem inhibition sys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... and possibly a few oth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Straight Arrow Connector 42"/>
          <p:cNvCxnSpPr>
            <a:stCxn id="49" idx="6"/>
          </p:cNvCxnSpPr>
          <p:nvPr/>
        </p:nvCxnSpPr>
        <p:spPr>
          <a:xfrm>
            <a:off x="1595160" y="3181320"/>
            <a:ext cx="6864840" cy="32400"/>
          </a:xfrm>
          <a:prstGeom prst="straightConnector1">
            <a:avLst/>
          </a:prstGeom>
          <a:ln w="38160">
            <a:solidFill>
              <a:srgbClr val="4f81bd"/>
            </a:solidFill>
            <a:prstDash val="sysDash"/>
            <a:miter/>
            <a:tailEnd len="med" type="arrow" w="med"/>
          </a:ln>
        </p:spPr>
      </p:cxnSp>
      <p:sp>
        <p:nvSpPr>
          <p:cNvPr id="49" name="Oval 3"/>
          <p:cNvSpPr/>
          <p:nvPr/>
        </p:nvSpPr>
        <p:spPr>
          <a:xfrm>
            <a:off x="250920" y="2820960"/>
            <a:ext cx="1344600" cy="720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iddle 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908000" y="2749680"/>
            <a:ext cx="1751040" cy="8636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asilar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4716360" y="2892600"/>
            <a:ext cx="1440000" cy="57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uditory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6516720" y="2820960"/>
            <a:ext cx="1584360" cy="720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rain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Elbow Connector 8"/>
          <p:cNvCxnSpPr>
            <a:stCxn id="52" idx="0"/>
            <a:endCxn id="49" idx="0"/>
          </p:cNvCxnSpPr>
          <p:nvPr/>
        </p:nvCxnSpPr>
        <p:spPr>
          <a:xfrm flipV="1" rot="16200000">
            <a:off x="4115880" y="-372240"/>
            <a:ext cx="2160" cy="6387480"/>
          </a:xfrm>
          <a:prstGeom prst="bentConnector3">
            <a:avLst>
              <a:gd name="adj1" fmla="val 44980000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Elbow Connector 11"/>
          <p:cNvCxnSpPr>
            <a:stCxn id="52" idx="1"/>
            <a:endCxn id="50" idx="0"/>
          </p:cNvCxnSpPr>
          <p:nvPr/>
        </p:nvCxnSpPr>
        <p:spPr>
          <a:xfrm flipV="1" rot="16200000">
            <a:off x="4677120" y="853920"/>
            <a:ext cx="176760" cy="3966480"/>
          </a:xfrm>
          <a:prstGeom prst="bentConnector3">
            <a:avLst>
              <a:gd name="adj1" fmla="val 228979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Elbow Connector 24"/>
          <p:cNvCxnSpPr>
            <a:stCxn id="52" idx="3"/>
            <a:endCxn id="51" idx="4"/>
          </p:cNvCxnSpPr>
          <p:nvPr/>
        </p:nvCxnSpPr>
        <p:spPr>
          <a:xfrm rot="5400000">
            <a:off x="6074640" y="2795400"/>
            <a:ext cx="33840" cy="1313640"/>
          </a:xfrm>
          <a:prstGeom prst="bentConnector3">
            <a:avLst>
              <a:gd name="adj1" fmla="val 997849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Oval 35"/>
          <p:cNvSpPr/>
          <p:nvPr/>
        </p:nvSpPr>
        <p:spPr>
          <a:xfrm>
            <a:off x="3851280" y="2708280"/>
            <a:ext cx="1008000" cy="9446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ner hai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Elbow Connector 38"/>
          <p:cNvCxnSpPr/>
          <p:nvPr/>
        </p:nvCxnSpPr>
        <p:spPr>
          <a:xfrm rot="5400000">
            <a:off x="3142440" y="3240720"/>
            <a:ext cx="106920" cy="559080"/>
          </a:xfrm>
          <a:prstGeom prst="bentConnector3">
            <a:avLst>
              <a:gd name="adj1" fmla="val 423986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gulatory lo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Elbow Connector 50"/>
          <p:cNvCxnSpPr>
            <a:endCxn id="51" idx="3"/>
          </p:cNvCxnSpPr>
          <p:nvPr/>
        </p:nvCxnSpPr>
        <p:spPr>
          <a:xfrm rot="10800000">
            <a:off x="4926960" y="3384000"/>
            <a:ext cx="1821600" cy="45000"/>
          </a:xfrm>
          <a:prstGeom prst="bentConnector4">
            <a:avLst>
              <a:gd name="adj1" fmla="val 16248"/>
              <a:gd name="adj2" fmla="val -1025806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" name="Elbow Connector 54"/>
          <p:cNvCxnSpPr/>
          <p:nvPr/>
        </p:nvCxnSpPr>
        <p:spPr>
          <a:xfrm>
            <a:off x="826560" y="4869000"/>
            <a:ext cx="1008720" cy="2160"/>
          </a:xfrm>
          <a:prstGeom prst="bentConnector3">
            <a:avLst>
              <a:gd name="adj1" fmla="val 49982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Elbow Connector 58"/>
          <p:cNvCxnSpPr/>
          <p:nvPr/>
        </p:nvCxnSpPr>
        <p:spPr>
          <a:xfrm>
            <a:off x="826560" y="5443560"/>
            <a:ext cx="1008720" cy="2160"/>
          </a:xfrm>
          <a:prstGeom prst="bentConnector3">
            <a:avLst>
              <a:gd name="adj1" fmla="val 49982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Box 59"/>
          <p:cNvSpPr/>
          <p:nvPr/>
        </p:nvSpPr>
        <p:spPr>
          <a:xfrm>
            <a:off x="1983240" y="4724280"/>
            <a:ext cx="127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upp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xcit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1125720" y="17002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coustic 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2851560" y="212400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OC 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4726080" y="414036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OC effer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2205000" y="40672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2"/>
          <p:cNvSpPr/>
          <p:nvPr/>
        </p:nvSpPr>
        <p:spPr>
          <a:xfrm>
            <a:off x="7120440" y="414036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hib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Elbow Connector 23"/>
          <p:cNvCxnSpPr/>
          <p:nvPr/>
        </p:nvCxnSpPr>
        <p:spPr>
          <a:xfrm rot="5400000">
            <a:off x="7623360" y="3202200"/>
            <a:ext cx="106920" cy="559800"/>
          </a:xfrm>
          <a:prstGeom prst="bentConnector3">
            <a:avLst>
              <a:gd name="adj1" fmla="val 316554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TextBox 31"/>
          <p:cNvSpPr/>
          <p:nvPr/>
        </p:nvSpPr>
        <p:spPr>
          <a:xfrm>
            <a:off x="3520800" y="37800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acoustic reflex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ction begins above 60 dB SP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rongest for broadband s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ttenuation can be as great as 1 dB/dB above 80 dB SP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R motor neurons are broadly tun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Operation is relatively slow by acoustic standards (30+ m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bably a protection against sustained loud s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ntralateral as well as ipsilateral effec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y compute overall environment sound intens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52850" t="17347" r="12838" b="20640"/>
          <a:stretch/>
        </p:blipFill>
        <p:spPr>
          <a:xfrm>
            <a:off x="1476360" y="2050920"/>
            <a:ext cx="2479680" cy="252108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2633040" y="47163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 rot="16200000">
            <a:off x="383400" y="298800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edenc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rcRect l="27945" t="27190" r="32209" b="9813"/>
          <a:stretch/>
        </p:blipFill>
        <p:spPr>
          <a:xfrm>
            <a:off x="5192640" y="1979640"/>
            <a:ext cx="2835360" cy="2519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6016320" y="46432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 (m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 rot="16200000">
            <a:off x="3614400" y="287604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edenc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% of max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3141720" y="5493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oustic 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2216880" y="1700280"/>
            <a:ext cx="48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 threshold                            relatively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3273480" y="566100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ng and Dallos 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7382880" y="26370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0 dB S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5576760" y="2205000"/>
            <a:ext cx="99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5 dB S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. MOC suppression of BM respon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cts is through outer hair cells (OHC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OHC is dysfunctional, this cannot oper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egins to operate close to hearing thresho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Narrowly tuned (compared to A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ocal operation (source and target basilar membrane (BM) regions overla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n be controlled by from inferior colliculus (I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.g. triggering in anticipation (e.g. Swallow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ontralateral as well as ipsilateral effe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8021" t="15374" r="49366" b="6250"/>
          <a:stretch/>
        </p:blipFill>
        <p:spPr>
          <a:xfrm>
            <a:off x="2143080" y="404640"/>
            <a:ext cx="2438280" cy="251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rcRect l="9128" t="14390" r="49366" b="13750"/>
          <a:stretch/>
        </p:blipFill>
        <p:spPr>
          <a:xfrm>
            <a:off x="5891040" y="404640"/>
            <a:ext cx="2589480" cy="251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rcRect l="8575" t="13406" r="49366" b="11781"/>
          <a:stretch/>
        </p:blipFill>
        <p:spPr>
          <a:xfrm>
            <a:off x="2216160" y="3860640"/>
            <a:ext cx="2519280" cy="252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4"/>
          <a:stretch/>
        </p:blipFill>
        <p:spPr>
          <a:xfrm>
            <a:off x="5927760" y="3860640"/>
            <a:ext cx="2984400" cy="25210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2738160" y="44280"/>
            <a:ext cx="51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esholds                                       tuning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2781000" y="3419640"/>
            <a:ext cx="64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/ level                              basilar membrane dis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259920" y="292428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C effe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2557800" y="6516720"/>
            <a:ext cx="63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berman (1988)                          Russel and Murugasu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943280" y="504720"/>
            <a:ext cx="52578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5:32:05Z</dcterms:created>
  <dc:creator>rmeddis</dc:creator>
  <dc:description/>
  <dc:language>en-US</dc:language>
  <cp:lastModifiedBy>rmeddis</cp:lastModifiedBy>
  <dcterms:modified xsi:type="dcterms:W3CDTF">2010-11-12T16:24:57Z</dcterms:modified>
  <cp:revision>25</cp:revision>
  <dc:subject/>
  <dc:title>The efferent system and our response to loud sounds</dc:title>
</cp:coreProperties>
</file>