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9BB-BB0A-4C2E-92EC-544AEC04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928-CD90-498B-97B4-99A35BF7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92B-6CF2-429F-B254-9177A244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52B-5698-49DD-80E2-D2F18920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537-EDC7-42ED-B19D-59209162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0D2-3901-40C9-981E-15B51B30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1BE-9ADE-4138-82D1-05A855A9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BB7-A8B2-442F-9382-A0B1C94D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A45-9595-49A1-A7C6-4D35C1E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C63-6915-4FD0-A7E8-7BDBCFAD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5BA-F338-4FE1-8BE3-F9301C76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58C-B5E2-414F-9337-027329EB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F748-841B-4776-B19B-24782612DF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fferent system and our response to loud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ssex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44800" y="573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ology Department, Royal surrey county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. LOC Lateral-olivocochlear ref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ystem is not well underst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sists of descending fibers that make contact with the auditory nerve close to IHC but post-synap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both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xcitato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inhibi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 to 6 different neuro-transmitters may be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ly mysterious but potentially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Instantaneous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lar membrane (BM) response is linear up to about 20 dB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ve 20 dB SL, severe compression a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dB output for 10 dB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effect depends on the integrity of outer hair cells (OH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lost in some types of sensory neural impai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1000" y="260280"/>
            <a:ext cx="902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ways in which hearing impairment may affect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lack and Lopez-Poveda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3573360"/>
            <a:ext cx="41767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. Inner hair cell (IHC)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ceptor potential operates in a narrow range (say 30 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HC receptor potential is approximately linear up to 70 dB SPL then it hits a ce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verely compressed abov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gain is reduced in impairment, the ceiling may never be reached and the response will be linear through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Brainstem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jection neurons in cochlear nucleus (CN) are subject to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-frequency (narrow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been linked with echo-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-frequency (wide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be useful in noisy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hibition may be less active with ag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nctio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debate continues but possibilitie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ing the system response within some useful operating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at cocktail parties, conference di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ibiting unwanted sounds, e.g. Swallowing, cough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Wideband sup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t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ive 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Narrowband suppression and exci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process that regulate the strength of the response to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are supp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to go wrong. In a feedback loop the problem can lie either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failure of a system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the result of a failure of the input to the feedback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ory self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of the auditory system to sounds is self-regul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uses a range of different systems  to achiev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ilure of any one of these systems could affect how aversive sounds will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limit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se regulating systems include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oustic reflex (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dial-olivocochlear (M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teral-olivocochlear (L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ntaneous compression of mechanical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ner hair cell (IHC) receptor potential voltage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arious brainstem inhibi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.. and possibly a few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42"/>
          <p:cNvCxnSpPr>
            <a:stCxn id="49" idx="6"/>
          </p:cNvCxnSpPr>
          <p:nvPr/>
        </p:nvCxnSpPr>
        <p:spPr>
          <a:xfrm>
            <a:off x="1595160" y="3181320"/>
            <a:ext cx="6864840" cy="32400"/>
          </a:xfrm>
          <a:prstGeom prst="straightConnector1">
            <a:avLst/>
          </a:prstGeom>
          <a:ln w="38160">
            <a:solidFill>
              <a:srgbClr val="4f81bd"/>
            </a:solidFill>
            <a:prstDash val="sysDash"/>
            <a:miter/>
            <a:tailEnd len="med" type="arrow" w="med"/>
          </a:ln>
        </p:spPr>
      </p:cxnSp>
      <p:sp>
        <p:nvSpPr>
          <p:cNvPr id="49" name="Oval 3"/>
          <p:cNvSpPr/>
          <p:nvPr/>
        </p:nvSpPr>
        <p:spPr>
          <a:xfrm>
            <a:off x="250920" y="2820960"/>
            <a:ext cx="134460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749680"/>
            <a:ext cx="175104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asi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16360" y="2892600"/>
            <a:ext cx="144000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6516720" y="2820960"/>
            <a:ext cx="158436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in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Elbow Connector 8"/>
          <p:cNvCxnSpPr>
            <a:stCxn id="52" idx="0"/>
            <a:endCxn id="49" idx="0"/>
          </p:cNvCxnSpPr>
          <p:nvPr/>
        </p:nvCxnSpPr>
        <p:spPr>
          <a:xfrm flipV="1" rot="16200000">
            <a:off x="4115880" y="-372240"/>
            <a:ext cx="2160" cy="6387480"/>
          </a:xfrm>
          <a:prstGeom prst="bentConnector3">
            <a:avLst>
              <a:gd name="adj1" fmla="val 44980000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Elbow Connector 11"/>
          <p:cNvCxnSpPr>
            <a:stCxn id="52" idx="1"/>
            <a:endCxn id="50" idx="0"/>
          </p:cNvCxnSpPr>
          <p:nvPr/>
        </p:nvCxnSpPr>
        <p:spPr>
          <a:xfrm flipV="1" rot="16200000">
            <a:off x="4677120" y="853920"/>
            <a:ext cx="176760" cy="3966480"/>
          </a:xfrm>
          <a:prstGeom prst="bentConnector3">
            <a:avLst>
              <a:gd name="adj1" fmla="val 22897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Elbow Connector 24"/>
          <p:cNvCxnSpPr>
            <a:stCxn id="52" idx="3"/>
            <a:endCxn id="51" idx="4"/>
          </p:cNvCxnSpPr>
          <p:nvPr/>
        </p:nvCxnSpPr>
        <p:spPr>
          <a:xfrm rot="5400000">
            <a:off x="6074640" y="2795400"/>
            <a:ext cx="33840" cy="1313640"/>
          </a:xfrm>
          <a:prstGeom prst="bentConnector3">
            <a:avLst>
              <a:gd name="adj1" fmla="val 99784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Oval 35"/>
          <p:cNvSpPr/>
          <p:nvPr/>
        </p:nvSpPr>
        <p:spPr>
          <a:xfrm>
            <a:off x="3851280" y="2708280"/>
            <a:ext cx="1008000" cy="944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er 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Elbow Connector 38"/>
          <p:cNvCxnSpPr/>
          <p:nvPr/>
        </p:nvCxnSpPr>
        <p:spPr>
          <a:xfrm rot="5400000">
            <a:off x="3142440" y="3240720"/>
            <a:ext cx="106920" cy="559080"/>
          </a:xfrm>
          <a:prstGeom prst="bentConnector3">
            <a:avLst>
              <a:gd name="adj1" fmla="val 423986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tory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50"/>
          <p:cNvCxnSpPr>
            <a:endCxn id="51" idx="3"/>
          </p:cNvCxnSpPr>
          <p:nvPr/>
        </p:nvCxnSpPr>
        <p:spPr>
          <a:xfrm rot="10800000">
            <a:off x="4926960" y="3384000"/>
            <a:ext cx="1821600" cy="45000"/>
          </a:xfrm>
          <a:prstGeom prst="bentConnector4">
            <a:avLst>
              <a:gd name="adj1" fmla="val 16248"/>
              <a:gd name="adj2" fmla="val -1025806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Elbow Connector 54"/>
          <p:cNvCxnSpPr/>
          <p:nvPr/>
        </p:nvCxnSpPr>
        <p:spPr>
          <a:xfrm>
            <a:off x="826560" y="486900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Elbow Connector 58"/>
          <p:cNvCxnSpPr/>
          <p:nvPr/>
        </p:nvCxnSpPr>
        <p:spPr>
          <a:xfrm>
            <a:off x="826560" y="544356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59"/>
          <p:cNvSpPr/>
          <p:nvPr/>
        </p:nvSpPr>
        <p:spPr>
          <a:xfrm>
            <a:off x="1983240" y="472428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p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cit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1125720" y="1700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1560" y="2124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726080" y="414036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C effer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205000" y="4067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7120440" y="4140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Elbow Connector 23"/>
          <p:cNvCxnSpPr/>
          <p:nvPr/>
        </p:nvCxnSpPr>
        <p:spPr>
          <a:xfrm rot="5400000">
            <a:off x="7623360" y="3202200"/>
            <a:ext cx="106920" cy="559800"/>
          </a:xfrm>
          <a:prstGeom prst="bentConnector3">
            <a:avLst>
              <a:gd name="adj1" fmla="val 316554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520800" y="3780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oustic reflex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 begins above 6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est for broadb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ttenuation can be as great as 1 dB/dB above 8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R motor neurons are broadly tu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 is relatively slow by acoustic standards (30+ m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ly a protection against sustained lou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 compute overall environment sound inten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2850" t="17347" r="12838" b="20640"/>
          <a:stretch/>
        </p:blipFill>
        <p:spPr>
          <a:xfrm>
            <a:off x="1476360" y="2050920"/>
            <a:ext cx="247968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33040" y="4716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16200000">
            <a:off x="383400" y="298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27945" t="27190" r="32209" b="9813"/>
          <a:stretch/>
        </p:blipFill>
        <p:spPr>
          <a:xfrm>
            <a:off x="5192640" y="1979640"/>
            <a:ext cx="283536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6016320" y="4643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 rot="16200000">
            <a:off x="3614400" y="28760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14172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216880" y="1700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threshold                            relativel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273480" y="5661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g and Dallos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382880" y="26370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6760" y="22050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5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MOC suppression of BM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cts is through outer hair cells (OHC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OHC is dysfunctional, this cannot ope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gins to operate close to hearing thresh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rrowly tuned (compared to 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cal operation (source and target basilar membrane (BM) regions over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controlled by from inferior colliculus (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triggering in anticipation (e.g. Swallow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8021" t="15374" r="49366" b="6250"/>
          <a:stretch/>
        </p:blipFill>
        <p:spPr>
          <a:xfrm>
            <a:off x="2143080" y="404640"/>
            <a:ext cx="243828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9128" t="14390" r="49366" b="13750"/>
          <a:stretch/>
        </p:blipFill>
        <p:spPr>
          <a:xfrm>
            <a:off x="5891040" y="404640"/>
            <a:ext cx="258948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rcRect l="8575" t="13406" r="49366" b="11781"/>
          <a:stretch/>
        </p:blipFill>
        <p:spPr>
          <a:xfrm>
            <a:off x="2216160" y="386064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5927760" y="3860640"/>
            <a:ext cx="298440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38160" y="44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sholds                                       tuning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81000" y="34196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/ level                              basilar membran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9920" y="2924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C ef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557800" y="651672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man (1988)                          Russel and Murugas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43280" y="504720"/>
            <a:ext cx="5257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2:05Z</dcterms:created>
  <dc:creator>rmeddis</dc:creator>
  <dc:description/>
  <dc:language>en-US</dc:language>
  <cp:lastModifiedBy>rmeddis</cp:lastModifiedBy>
  <dcterms:modified xsi:type="dcterms:W3CDTF">2010-11-12T16:24:57Z</dcterms:modified>
  <cp:revision>25</cp:revision>
  <dc:subject/>
  <dc:title>The efferent system and our response to loud sounds</dc:title>
</cp:coreProperties>
</file>