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11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8E4C6-D9D5-47CC-8860-F779C0010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FC202-0386-4026-B0F8-5255AFE76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D9011-EF1C-4EDB-9FCC-AAF01D2A5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0EE3A-C790-4F7A-936F-9937E6BB2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F3D9E-8839-4BB9-9B9D-31C60A6FF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DCAFA-EC5A-4147-A8D8-9A025BB17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EEAA9-B84D-4C3E-BB54-D74A7B5D3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F8B21-9F02-4475-9CC7-642144676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E219D-8E83-458D-A2C1-B2F8305D2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5FDDA-601B-45E7-93B0-5BF695174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20376-4D3A-4A02-A4FF-448253D8F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F163E-0E5F-4474-ADE8-6DD86F7F4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44668-53E3-4A4F-96B8-BFF7E23455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pn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image" Target="../media/image45.png"/><Relationship Id="rId4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 introduction to probabilistic graphical model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d the Bayes Net Toolbox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Matla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vin Murp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T AI L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7 May 200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990720" y="228600"/>
            <a:ext cx="6686280" cy="641988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5327280" y="6234120"/>
            <a:ext cx="351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ure from S. Roweis &amp; Z. Ghahraman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te-space model (SSM)/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near Dynamical System (LD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685800" y="1905120"/>
            <a:ext cx="4533840" cy="2743200"/>
            <a:chOff x="685800" y="1905120"/>
            <a:chExt cx="4533840" cy="2743200"/>
          </a:xfrm>
        </p:grpSpPr>
        <p:sp>
          <p:nvSpPr>
            <p:cNvPr id="209" name=""/>
            <p:cNvSpPr/>
            <p:nvPr/>
          </p:nvSpPr>
          <p:spPr>
            <a:xfrm>
              <a:off x="68580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47644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30524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85800" y="365760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104840" y="281952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305240" y="37339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724280" y="28954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476440" y="37339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895480" y="28954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638360" y="2362320"/>
              <a:ext cx="838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390840" y="236232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92720" y="20988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7136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5424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697840" y="40035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143000" y="6019920"/>
            <a:ext cx="6222960" cy="55872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596880" y="4952880"/>
            <a:ext cx="7670880" cy="53352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5637240" y="2133720"/>
            <a:ext cx="174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ue” 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622840" y="3851280"/>
            <a:ext cx="25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isy obser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S for 2D track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762120" y="4419720"/>
            <a:ext cx="2971800" cy="1752480"/>
            <a:chOff x="762120" y="4419720"/>
            <a:chExt cx="2971800" cy="1752480"/>
          </a:xfrm>
        </p:grpSpPr>
        <p:sp>
          <p:nvSpPr>
            <p:cNvPr id="230" name=""/>
            <p:cNvSpPr/>
            <p:nvPr/>
          </p:nvSpPr>
          <p:spPr>
            <a:xfrm>
              <a:off x="76212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93536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13380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62120" y="5538960"/>
              <a:ext cx="600120" cy="5857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036800" y="5004000"/>
              <a:ext cx="0" cy="534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133800" y="558828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408480" y="505296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935360" y="558828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210040" y="505296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386000" y="471168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535480" y="471168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70760" y="4496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990080" y="4496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209400" y="4419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990080" y="5639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4648320" cy="94464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457200" y="2666880"/>
            <a:ext cx="4114800" cy="1260720"/>
          </a:xfrm>
          <a:prstGeom prst="rect">
            <a:avLst/>
          </a:prstGeom>
          <a:ln w="0">
            <a:noFill/>
          </a:ln>
        </p:spPr>
      </p:pic>
      <p:grpSp>
        <p:nvGrpSpPr>
          <p:cNvPr id="247" name=""/>
          <p:cNvGrpSpPr/>
          <p:nvPr/>
        </p:nvGrpSpPr>
        <p:grpSpPr>
          <a:xfrm>
            <a:off x="5146200" y="3733920"/>
            <a:ext cx="2794320" cy="2895480"/>
            <a:chOff x="5146200" y="3733920"/>
            <a:chExt cx="2794320" cy="2895480"/>
          </a:xfrm>
        </p:grpSpPr>
        <p:grpSp>
          <p:nvGrpSpPr>
            <p:cNvPr id="248" name=""/>
            <p:cNvGrpSpPr/>
            <p:nvPr/>
          </p:nvGrpSpPr>
          <p:grpSpPr>
            <a:xfrm>
              <a:off x="5892480" y="3733920"/>
              <a:ext cx="381240" cy="2895480"/>
              <a:chOff x="5892480" y="3733920"/>
              <a:chExt cx="381240" cy="2895480"/>
            </a:xfrm>
          </p:grpSpPr>
          <p:sp>
            <p:nvSpPr>
              <p:cNvPr id="249" name=""/>
              <p:cNvSpPr/>
              <p:nvPr/>
            </p:nvSpPr>
            <p:spPr>
              <a:xfrm>
                <a:off x="5892480" y="41911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5892480" y="37339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5892480" y="46483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5892480" y="571500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5892480" y="51055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5892480" y="624852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5" name=""/>
            <p:cNvGrpSpPr/>
            <p:nvPr/>
          </p:nvGrpSpPr>
          <p:grpSpPr>
            <a:xfrm>
              <a:off x="7035480" y="3733920"/>
              <a:ext cx="381240" cy="2895480"/>
              <a:chOff x="7035480" y="3733920"/>
              <a:chExt cx="381240" cy="2895480"/>
            </a:xfrm>
          </p:grpSpPr>
          <p:sp>
            <p:nvSpPr>
              <p:cNvPr id="256" name=""/>
              <p:cNvSpPr/>
              <p:nvPr/>
            </p:nvSpPr>
            <p:spPr>
              <a:xfrm>
                <a:off x="7035480" y="41911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7035480" y="37339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7035480" y="46483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7035480" y="571500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7035480" y="51055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7035480" y="624852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2" name=""/>
            <p:cNvSpPr/>
            <p:nvPr/>
          </p:nvSpPr>
          <p:spPr>
            <a:xfrm>
              <a:off x="6273720" y="38862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273720" y="441972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273720" y="48006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273720" y="52578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>
              <a:off x="6273720" y="4800600"/>
              <a:ext cx="7617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>
              <a:off x="6273720" y="3962520"/>
              <a:ext cx="7617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8" name=""/>
            <p:cNvCxnSpPr>
              <a:stCxn id="251" idx="2"/>
              <a:endCxn id="252" idx="2"/>
            </p:cNvCxnSpPr>
            <p:nvPr/>
          </p:nvCxnSpPr>
          <p:spPr>
            <a:xfrm flipH="1" flipV="1" rot="10800000">
              <a:off x="5891400" y="4838400"/>
              <a:ext cx="2520" cy="1067760"/>
            </a:xfrm>
            <a:prstGeom prst="bentConnector3">
              <a:avLst>
                <a:gd name="adj1" fmla="val -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9" name=""/>
            <p:cNvCxnSpPr>
              <a:stCxn id="250" idx="2"/>
              <a:endCxn id="254" idx="2"/>
            </p:cNvCxnSpPr>
            <p:nvPr/>
          </p:nvCxnSpPr>
          <p:spPr>
            <a:xfrm flipH="1" flipV="1" rot="10800000">
              <a:off x="5891400" y="3923280"/>
              <a:ext cx="2520" cy="2515320"/>
            </a:xfrm>
            <a:prstGeom prst="bentConnector3">
              <a:avLst>
                <a:gd name="adj1" fmla="val -345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0" name=""/>
            <p:cNvCxnSpPr>
              <a:stCxn id="258" idx="6"/>
              <a:endCxn id="259" idx="6"/>
            </p:cNvCxnSpPr>
            <p:nvPr/>
          </p:nvCxnSpPr>
          <p:spPr>
            <a:xfrm>
              <a:off x="7416720" y="4838760"/>
              <a:ext cx="2160" cy="1067760"/>
            </a:xfrm>
            <a:prstGeom prst="bentConnector3">
              <a:avLst>
                <a:gd name="adj1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1" name=""/>
            <p:cNvCxnSpPr>
              <a:stCxn id="257" idx="6"/>
              <a:endCxn id="261" idx="6"/>
            </p:cNvCxnSpPr>
            <p:nvPr/>
          </p:nvCxnSpPr>
          <p:spPr>
            <a:xfrm>
              <a:off x="7416720" y="3924000"/>
              <a:ext cx="2160" cy="2515320"/>
            </a:xfrm>
            <a:prstGeom prst="bentConnector3">
              <a:avLst>
                <a:gd name="adj1" fmla="val 291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2" name=""/>
            <p:cNvSpPr/>
            <p:nvPr/>
          </p:nvSpPr>
          <p:spPr>
            <a:xfrm>
              <a:off x="5897160" y="374508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897160" y="426744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51320" y="426744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040160" y="37339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897160" y="57913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1320" y="57913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896440" y="472464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896440" y="5105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090200" y="5105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039440" y="46483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7039440" y="6248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870880" y="6248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045120" y="42674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7188120" y="42674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045120" y="51818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188120" y="51818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189200" y="56833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989320" y="563904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970240" y="61405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132320" y="61722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2" name=""/>
          <p:cNvSpPr/>
          <p:nvPr/>
        </p:nvSpPr>
        <p:spPr>
          <a:xfrm>
            <a:off x="5163120" y="1717560"/>
            <a:ext cx="400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arse linear Gaussian system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parse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dden Markov model (HMM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609480" y="1295280"/>
            <a:ext cx="4533840" cy="2743200"/>
            <a:chOff x="609480" y="1295280"/>
            <a:chExt cx="4533840" cy="2743200"/>
          </a:xfrm>
        </p:grpSpPr>
        <p:sp>
          <p:nvSpPr>
            <p:cNvPr id="295" name=""/>
            <p:cNvSpPr/>
            <p:nvPr/>
          </p:nvSpPr>
          <p:spPr>
            <a:xfrm>
              <a:off x="60948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240012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22892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09480" y="30481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028520" y="22096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228920" y="312408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647960" y="228600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400120" y="312408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819160" y="228600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561680" y="175248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314520" y="1752480"/>
              <a:ext cx="838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16400" y="14889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637360" y="1523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466160" y="1523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621520" y="33940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10" name="" descr=""/>
          <p:cNvPicPr/>
          <p:nvPr/>
        </p:nvPicPr>
        <p:blipFill>
          <a:blip r:embed="rId1"/>
          <a:stretch/>
        </p:blipFill>
        <p:spPr>
          <a:xfrm>
            <a:off x="304920" y="4952880"/>
            <a:ext cx="6781680" cy="50328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5487840" y="1600200"/>
            <a:ext cx="196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ones/ w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560920" y="3429000"/>
            <a:ext cx="198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oustic sig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298280" y="4765680"/>
            <a:ext cx="1335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i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r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29200" cy="49536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7375680" y="5756400"/>
            <a:ext cx="172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ussia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3911040" y="4191120"/>
            <a:ext cx="4882320" cy="459720"/>
            <a:chOff x="3911040" y="4191120"/>
            <a:chExt cx="4882320" cy="459720"/>
          </a:xfrm>
        </p:grpSpPr>
        <p:sp>
          <p:nvSpPr>
            <p:cNvPr id="317" name=""/>
            <p:cNvSpPr/>
            <p:nvPr/>
          </p:nvSpPr>
          <p:spPr>
            <a:xfrm>
              <a:off x="3911040" y="4191120"/>
              <a:ext cx="4882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parse transition matrix </a:t>
              </a:r>
              <a:r>
                <a:rPr b="0" lang="en-US" sz="2400" spc="-1" strike="noStrike">
                  <a:solidFill>
                    <a:srgbClr val="000000"/>
                  </a:solidFill>
                  <a:latin typeface="cmsy10"/>
                </a:rPr>
                <a:t>)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parse grap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6934320" y="4266720"/>
              <a:ext cx="1522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In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99880" y="1073160"/>
            <a:ext cx="8643960" cy="53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osterior probabili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ability of any event given any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st likely explan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enario that explains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ational decision mak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expected ut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 of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ffect of interven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usal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5891040" y="3705120"/>
            <a:ext cx="2760480" cy="2640240"/>
            <a:chOff x="5891040" y="3705120"/>
            <a:chExt cx="2760480" cy="2640240"/>
          </a:xfrm>
        </p:grpSpPr>
        <p:sp>
          <p:nvSpPr>
            <p:cNvPr id="322" name=""/>
            <p:cNvSpPr/>
            <p:nvPr/>
          </p:nvSpPr>
          <p:spPr>
            <a:xfrm>
              <a:off x="6097320" y="3706920"/>
              <a:ext cx="110664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Earthquak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891040" y="4811760"/>
              <a:ext cx="108252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Rad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592760" y="3705120"/>
              <a:ext cx="10587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Burgla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7341840" y="4811760"/>
              <a:ext cx="1033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Alar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367400" y="5854680"/>
              <a:ext cx="9795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>
              <a:off x="6406560" y="4187880"/>
              <a:ext cx="284040" cy="627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846840" y="4183200"/>
              <a:ext cx="900000" cy="626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>
              <a:off x="7948080" y="4203720"/>
              <a:ext cx="181080" cy="614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30" name=""/>
            <p:cNvCxnSpPr>
              <a:stCxn id="325" idx="4"/>
              <a:endCxn id="326" idx="0"/>
            </p:cNvCxnSpPr>
            <p:nvPr/>
          </p:nvCxnSpPr>
          <p:spPr>
            <a:xfrm flipH="1">
              <a:off x="7857720" y="5316120"/>
              <a:ext cx="2160" cy="524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331" name=""/>
          <p:cNvSpPr/>
          <p:nvPr/>
        </p:nvSpPr>
        <p:spPr>
          <a:xfrm>
            <a:off x="5892840" y="4809960"/>
            <a:ext cx="1082520" cy="48924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Rad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7365960" y="5853240"/>
            <a:ext cx="979560" cy="490320"/>
          </a:xfrm>
          <a:prstGeom prst="ellipse">
            <a:avLst/>
          </a:prstGeom>
          <a:solidFill>
            <a:srgbClr val="33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C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294600" y="2986200"/>
            <a:ext cx="304560" cy="609480"/>
          </a:xfrm>
          <a:prstGeom prst="upArrow">
            <a:avLst>
              <a:gd name="adj1" fmla="val 50000"/>
              <a:gd name="adj2" fmla="val 50030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8153280" y="3078000"/>
            <a:ext cx="304920" cy="549360"/>
          </a:xfrm>
          <a:prstGeom prst="downArrow">
            <a:avLst>
              <a:gd name="adj1" fmla="val 50000"/>
              <a:gd name="adj2" fmla="val 4504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7728120" y="3016080"/>
            <a:ext cx="304560" cy="609840"/>
          </a:xfrm>
          <a:prstGeom prst="upArrow">
            <a:avLst>
              <a:gd name="adj1" fmla="val 50000"/>
              <a:gd name="adj2" fmla="val 50059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V="1">
            <a:off x="6688080" y="2711520"/>
            <a:ext cx="304920" cy="884160"/>
          </a:xfrm>
          <a:prstGeom prst="downArrow">
            <a:avLst>
              <a:gd name="adj1" fmla="val 50000"/>
              <a:gd name="adj2" fmla="val 7249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788440" y="2286000"/>
            <a:ext cx="30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laining away ef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alman filtering (recursive state estimation in an LDS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0" name=""/>
          <p:cNvGrpSpPr/>
          <p:nvPr/>
        </p:nvGrpSpPr>
        <p:grpSpPr>
          <a:xfrm>
            <a:off x="4876920" y="2209680"/>
            <a:ext cx="2971800" cy="1752480"/>
            <a:chOff x="4876920" y="2209680"/>
            <a:chExt cx="2971800" cy="1752480"/>
          </a:xfrm>
        </p:grpSpPr>
        <p:sp>
          <p:nvSpPr>
            <p:cNvPr id="341" name=""/>
            <p:cNvSpPr/>
            <p:nvPr/>
          </p:nvSpPr>
          <p:spPr>
            <a:xfrm>
              <a:off x="487692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05016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24860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4876920" y="3328920"/>
              <a:ext cx="600120" cy="5857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151600" y="2793960"/>
              <a:ext cx="0" cy="534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248600" y="337824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523280" y="284292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050160" y="337824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324840" y="284292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5500800" y="250164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6650280" y="250164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885560" y="2286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104880" y="2286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324200" y="22096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104880" y="3429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56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3551400" cy="3157560"/>
          </a:xfrm>
          <a:prstGeom prst="rect">
            <a:avLst/>
          </a:prstGeom>
          <a:ln w="0">
            <a:noFill/>
          </a:ln>
        </p:spPr>
      </p:pic>
      <p:sp>
        <p:nvSpPr>
          <p:cNvPr id="357" name=""/>
          <p:cNvSpPr/>
          <p:nvPr/>
        </p:nvSpPr>
        <p:spPr>
          <a:xfrm>
            <a:off x="470520" y="5146560"/>
            <a:ext cx="590544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timate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from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and 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dict: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X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pdate: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(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wards algorithm for HM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080" y="1066680"/>
            <a:ext cx="128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dic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080" y="3581280"/>
            <a:ext cx="129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pda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1" name="" descr=""/>
          <p:cNvPicPr/>
          <p:nvPr/>
        </p:nvPicPr>
        <p:blipFill>
          <a:blip r:embed="rId1"/>
          <a:stretch/>
        </p:blipFill>
        <p:spPr>
          <a:xfrm>
            <a:off x="457200" y="4952880"/>
            <a:ext cx="3657600" cy="63504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2"/>
          <a:stretch/>
        </p:blipFill>
        <p:spPr>
          <a:xfrm>
            <a:off x="685800" y="2666880"/>
            <a:ext cx="3809880" cy="723960"/>
          </a:xfrm>
          <a:prstGeom prst="rect">
            <a:avLst/>
          </a:prstGeom>
          <a:ln w="0">
            <a:noFill/>
          </a:ln>
        </p:spPr>
      </p:pic>
      <p:grpSp>
        <p:nvGrpSpPr>
          <p:cNvPr id="363" name=""/>
          <p:cNvGrpSpPr/>
          <p:nvPr/>
        </p:nvGrpSpPr>
        <p:grpSpPr>
          <a:xfrm>
            <a:off x="305280" y="5562720"/>
            <a:ext cx="6299640" cy="1063440"/>
            <a:chOff x="305280" y="5562720"/>
            <a:chExt cx="6299640" cy="1063440"/>
          </a:xfrm>
        </p:grpSpPr>
        <p:sp>
          <p:nvSpPr>
            <p:cNvPr id="364" name=""/>
            <p:cNvSpPr/>
            <p:nvPr/>
          </p:nvSpPr>
          <p:spPr>
            <a:xfrm>
              <a:off x="406080" y="6105600"/>
              <a:ext cx="6198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O(T S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 time using dynamic programmin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05280" y="5562720"/>
              <a:ext cx="554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Discrete-state analog of Kalman filte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66" name="" descr=""/>
          <p:cNvPicPr/>
          <p:nvPr/>
        </p:nvPicPr>
        <p:blipFill>
          <a:blip r:embed="rId3"/>
          <a:stretch/>
        </p:blipFill>
        <p:spPr>
          <a:xfrm>
            <a:off x="609480" y="1676520"/>
            <a:ext cx="7358040" cy="67608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4"/>
          <a:stretch/>
        </p:blipFill>
        <p:spPr>
          <a:xfrm>
            <a:off x="380880" y="4343400"/>
            <a:ext cx="854244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ssage passing view of forwards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2057400" y="1981080"/>
            <a:ext cx="3935520" cy="2451600"/>
            <a:chOff x="2057400" y="1981080"/>
            <a:chExt cx="3935520" cy="2451600"/>
          </a:xfrm>
        </p:grpSpPr>
        <p:sp>
          <p:nvSpPr>
            <p:cNvPr id="370" name=""/>
            <p:cNvSpPr/>
            <p:nvPr/>
          </p:nvSpPr>
          <p:spPr>
            <a:xfrm>
              <a:off x="205740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1152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19912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2057400" y="3673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2421000" y="3071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5199120" y="3727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562720" y="3125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3611520" y="3727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975120" y="3125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2884320" y="2743200"/>
              <a:ext cx="72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405320" y="2743200"/>
              <a:ext cx="72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160360" y="2554200"/>
              <a:ext cx="59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816360" y="257940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78320" y="2514600"/>
              <a:ext cx="636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802320" y="39225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968560" y="246996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 flipV="1">
              <a:off x="3679920" y="3071520"/>
              <a:ext cx="0" cy="5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919600" y="1981080"/>
              <a:ext cx="653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|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3282480" y="3200400"/>
              <a:ext cx="381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495680" y="243828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flipV="1">
              <a:off x="5334120" y="3047760"/>
              <a:ext cx="0" cy="5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744440" y="3124080"/>
              <a:ext cx="569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2" name=""/>
          <p:cNvGrpSpPr/>
          <p:nvPr/>
        </p:nvGrpSpPr>
        <p:grpSpPr>
          <a:xfrm>
            <a:off x="2133720" y="4648320"/>
            <a:ext cx="4012920" cy="1929960"/>
            <a:chOff x="2133720" y="4648320"/>
            <a:chExt cx="4012920" cy="1929960"/>
          </a:xfrm>
        </p:grpSpPr>
        <p:pic>
          <p:nvPicPr>
            <p:cNvPr id="393" name="" descr=""/>
            <p:cNvPicPr/>
            <p:nvPr/>
          </p:nvPicPr>
          <p:blipFill>
            <a:blip r:embed="rId1"/>
            <a:stretch/>
          </p:blipFill>
          <p:spPr>
            <a:xfrm>
              <a:off x="2209680" y="5943600"/>
              <a:ext cx="3657600" cy="63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4" name="" descr=""/>
            <p:cNvPicPr/>
            <p:nvPr/>
          </p:nvPicPr>
          <p:blipFill>
            <a:blip r:embed="rId2"/>
            <a:stretch/>
          </p:blipFill>
          <p:spPr>
            <a:xfrm>
              <a:off x="2133720" y="4648320"/>
              <a:ext cx="4012920" cy="761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wards-backwards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914400" y="762120"/>
            <a:ext cx="6743520" cy="3241080"/>
            <a:chOff x="914400" y="762120"/>
            <a:chExt cx="6743520" cy="3241080"/>
          </a:xfrm>
        </p:grpSpPr>
        <p:sp>
          <p:nvSpPr>
            <p:cNvPr id="397" name=""/>
            <p:cNvSpPr/>
            <p:nvPr/>
          </p:nvSpPr>
          <p:spPr>
            <a:xfrm>
              <a:off x="91440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57804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29748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914400" y="301284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538280" y="217476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297480" y="308916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21360" y="225108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578040" y="308916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4200480" y="225108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330280" y="1717560"/>
              <a:ext cx="1247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938480" y="1717560"/>
              <a:ext cx="1246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077480" y="1454040"/>
              <a:ext cx="59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3924360" y="14889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657840" y="1488960"/>
              <a:ext cx="636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900600" y="33591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476440" y="133668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 flipH="1">
              <a:off x="5066640" y="126036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 flipV="1">
              <a:off x="3695400" y="2174760"/>
              <a:ext cx="0" cy="761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2484720" y="838080"/>
              <a:ext cx="653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|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132880" y="762120"/>
              <a:ext cx="397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244320" y="2327040"/>
              <a:ext cx="381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18" name="" descr=""/>
          <p:cNvPicPr/>
          <p:nvPr/>
        </p:nvPicPr>
        <p:blipFill>
          <a:blip r:embed="rId1"/>
          <a:stretch/>
        </p:blipFill>
        <p:spPr>
          <a:xfrm>
            <a:off x="228600" y="5181480"/>
            <a:ext cx="8686800" cy="658800"/>
          </a:xfrm>
          <a:prstGeom prst="rect">
            <a:avLst/>
          </a:prstGeom>
          <a:ln w="0">
            <a:noFill/>
          </a:ln>
        </p:spPr>
      </p:pic>
      <p:pic>
        <p:nvPicPr>
          <p:cNvPr id="419" name="" descr=""/>
          <p:cNvPicPr/>
          <p:nvPr/>
        </p:nvPicPr>
        <p:blipFill>
          <a:blip r:embed="rId2"/>
          <a:stretch/>
        </p:blipFill>
        <p:spPr>
          <a:xfrm>
            <a:off x="1447920" y="6197760"/>
            <a:ext cx="6095880" cy="66024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/>
          <p:nvPr/>
        </p:nvSpPr>
        <p:spPr>
          <a:xfrm>
            <a:off x="290520" y="4334040"/>
            <a:ext cx="493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crete analog of RTS smoo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lief Propag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2" name=""/>
          <p:cNvGrpSpPr/>
          <p:nvPr/>
        </p:nvGrpSpPr>
        <p:grpSpPr>
          <a:xfrm>
            <a:off x="457200" y="3276720"/>
            <a:ext cx="7202520" cy="2681280"/>
            <a:chOff x="457200" y="3276720"/>
            <a:chExt cx="7202520" cy="2681280"/>
          </a:xfrm>
        </p:grpSpPr>
        <p:grpSp>
          <p:nvGrpSpPr>
            <p:cNvPr id="423" name=""/>
            <p:cNvGrpSpPr/>
            <p:nvPr/>
          </p:nvGrpSpPr>
          <p:grpSpPr>
            <a:xfrm>
              <a:off x="457200" y="4073760"/>
              <a:ext cx="2584440" cy="1884240"/>
              <a:chOff x="457200" y="4073760"/>
              <a:chExt cx="2584440" cy="1884240"/>
            </a:xfrm>
          </p:grpSpPr>
          <p:sp>
            <p:nvSpPr>
              <p:cNvPr id="424" name=""/>
              <p:cNvSpPr/>
              <p:nvPr/>
            </p:nvSpPr>
            <p:spPr>
              <a:xfrm>
                <a:off x="457200" y="520560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1315800" y="490068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782640" y="422136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1701720" y="5575320"/>
                <a:ext cx="38232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2365200" y="471024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242460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1788840" y="407376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2658960" y="546120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701640" y="4595760"/>
                <a:ext cx="199800" cy="611280"/>
              </a:xfrm>
              <a:custGeom>
                <a:avLst/>
                <a:gdLst/>
                <a:ahLst/>
                <a:rect l="l" t="t" r="r" b="b"/>
                <a:pathLst>
                  <a:path w="126" h="385">
                    <a:moveTo>
                      <a:pt x="126" y="1"/>
                    </a:moveTo>
                    <a:lnTo>
                      <a:pt x="120" y="0"/>
                    </a:lnTo>
                    <a:lnTo>
                      <a:pt x="0" y="384"/>
                    </a:lnTo>
                    <a:lnTo>
                      <a:pt x="6" y="385"/>
                    </a:lnTo>
                    <a:lnTo>
                      <a:pt x="12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1601640" y="5251680"/>
                <a:ext cx="196920" cy="345960"/>
              </a:xfrm>
              <a:custGeom>
                <a:avLst/>
                <a:gdLst/>
                <a:ahLst/>
                <a:rect l="l" t="t" r="r" b="b"/>
                <a:pathLst>
                  <a:path w="124" h="218">
                    <a:moveTo>
                      <a:pt x="5" y="0"/>
                    </a:moveTo>
                    <a:lnTo>
                      <a:pt x="0" y="2"/>
                    </a:lnTo>
                    <a:lnTo>
                      <a:pt x="119" y="218"/>
                    </a:lnTo>
                    <a:lnTo>
                      <a:pt x="124" y="216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1600200" y="4432320"/>
                <a:ext cx="274320" cy="496800"/>
              </a:xfrm>
              <a:custGeom>
                <a:avLst/>
                <a:gdLst/>
                <a:ahLst/>
                <a:rect l="l" t="t" r="r" b="b"/>
                <a:pathLst>
                  <a:path w="173" h="313">
                    <a:moveTo>
                      <a:pt x="173" y="2"/>
                    </a:moveTo>
                    <a:lnTo>
                      <a:pt x="168" y="0"/>
                    </a:lnTo>
                    <a:lnTo>
                      <a:pt x="0" y="311"/>
                    </a:lnTo>
                    <a:lnTo>
                      <a:pt x="5" y="313"/>
                    </a:lnTo>
                    <a:lnTo>
                      <a:pt x="17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1707840" y="4938840"/>
                <a:ext cx="648000" cy="123840"/>
              </a:xfrm>
              <a:custGeom>
                <a:avLst/>
                <a:gdLst/>
                <a:ahLst/>
                <a:rect l="l" t="t" r="r" b="b"/>
                <a:pathLst>
                  <a:path w="408" h="78">
                    <a:moveTo>
                      <a:pt x="0" y="72"/>
                    </a:moveTo>
                    <a:lnTo>
                      <a:pt x="1" y="78"/>
                    </a:lnTo>
                    <a:lnTo>
                      <a:pt x="408" y="6"/>
                    </a:lnTo>
                    <a:lnTo>
                      <a:pt x="407" y="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2612880" y="5085000"/>
                <a:ext cx="160200" cy="382320"/>
              </a:xfrm>
              <a:custGeom>
                <a:avLst/>
                <a:gdLst/>
                <a:ahLst/>
                <a:rect l="l" t="t" r="r" b="b"/>
                <a:pathLst>
                  <a:path w="101" h="241">
                    <a:moveTo>
                      <a:pt x="6" y="0"/>
                    </a:moveTo>
                    <a:lnTo>
                      <a:pt x="0" y="2"/>
                    </a:lnTo>
                    <a:lnTo>
                      <a:pt x="95" y="241"/>
                    </a:lnTo>
                    <a:lnTo>
                      <a:pt x="101" y="239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1117440" y="4551480"/>
                <a:ext cx="272880" cy="384120"/>
              </a:xfrm>
              <a:custGeom>
                <a:avLst/>
                <a:gdLst/>
                <a:ahLst/>
                <a:rect l="l" t="t" r="r" b="b"/>
                <a:pathLst>
                  <a:path w="172" h="242">
                    <a:moveTo>
                      <a:pt x="5" y="0"/>
                    </a:moveTo>
                    <a:lnTo>
                      <a:pt x="0" y="3"/>
                    </a:lnTo>
                    <a:lnTo>
                      <a:pt x="167" y="242"/>
                    </a:lnTo>
                    <a:lnTo>
                      <a:pt x="172" y="239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731520" y="4792680"/>
                <a:ext cx="139680" cy="263520"/>
              </a:xfrm>
              <a:custGeom>
                <a:avLst/>
                <a:gdLst/>
                <a:ahLst/>
                <a:rect l="l" t="t" r="r" b="b"/>
                <a:pathLst>
                  <a:path w="88" h="166">
                    <a:moveTo>
                      <a:pt x="19" y="29"/>
                    </a:moveTo>
                    <a:lnTo>
                      <a:pt x="36" y="35"/>
                    </a:lnTo>
                    <a:lnTo>
                      <a:pt x="0" y="155"/>
                    </a:lnTo>
                    <a:lnTo>
                      <a:pt x="34" y="166"/>
                    </a:lnTo>
                    <a:lnTo>
                      <a:pt x="70" y="45"/>
                    </a:lnTo>
                    <a:lnTo>
                      <a:pt x="88" y="50"/>
                    </a:lnTo>
                    <a:lnTo>
                      <a:pt x="65" y="0"/>
                    </a:lnTo>
                    <a:lnTo>
                      <a:pt x="19" y="29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1141200" y="4603680"/>
                <a:ext cx="185760" cy="235080"/>
              </a:xfrm>
              <a:custGeom>
                <a:avLst/>
                <a:gdLst/>
                <a:ahLst/>
                <a:rect l="l" t="t" r="r" b="b"/>
                <a:pathLst>
                  <a:path w="117" h="148">
                    <a:moveTo>
                      <a:pt x="117" y="92"/>
                    </a:moveTo>
                    <a:lnTo>
                      <a:pt x="102" y="103"/>
                    </a:lnTo>
                    <a:lnTo>
                      <a:pt x="30" y="0"/>
                    </a:lnTo>
                    <a:lnTo>
                      <a:pt x="0" y="21"/>
                    </a:lnTo>
                    <a:lnTo>
                      <a:pt x="73" y="124"/>
                    </a:lnTo>
                    <a:lnTo>
                      <a:pt x="58" y="134"/>
                    </a:lnTo>
                    <a:lnTo>
                      <a:pt x="112" y="148"/>
                    </a:lnTo>
                    <a:lnTo>
                      <a:pt x="117" y="92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1658880" y="4545000"/>
                <a:ext cx="168120" cy="250920"/>
              </a:xfrm>
              <a:custGeom>
                <a:avLst/>
                <a:gdLst/>
                <a:ahLst/>
                <a:rect l="l" t="t" r="r" b="b"/>
                <a:pathLst>
                  <a:path w="106" h="158">
                    <a:moveTo>
                      <a:pt x="64" y="137"/>
                    </a:moveTo>
                    <a:lnTo>
                      <a:pt x="48" y="129"/>
                    </a:lnTo>
                    <a:lnTo>
                      <a:pt x="106" y="17"/>
                    </a:lnTo>
                    <a:lnTo>
                      <a:pt x="74" y="0"/>
                    </a:lnTo>
                    <a:lnTo>
                      <a:pt x="16" y="112"/>
                    </a:lnTo>
                    <a:lnTo>
                      <a:pt x="0" y="104"/>
                    </a:lnTo>
                    <a:lnTo>
                      <a:pt x="12" y="158"/>
                    </a:lnTo>
                    <a:lnTo>
                      <a:pt x="64" y="137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1896840" y="4932360"/>
                <a:ext cx="266760" cy="119160"/>
              </a:xfrm>
              <a:custGeom>
                <a:avLst/>
                <a:gdLst/>
                <a:ahLst/>
                <a:rect l="l" t="t" r="r" b="b"/>
                <a:pathLst>
                  <a:path w="168" h="75">
                    <a:moveTo>
                      <a:pt x="121" y="0"/>
                    </a:moveTo>
                    <a:lnTo>
                      <a:pt x="124" y="18"/>
                    </a:lnTo>
                    <a:lnTo>
                      <a:pt x="0" y="40"/>
                    </a:lnTo>
                    <a:lnTo>
                      <a:pt x="6" y="75"/>
                    </a:lnTo>
                    <a:lnTo>
                      <a:pt x="130" y="54"/>
                    </a:lnTo>
                    <a:lnTo>
                      <a:pt x="133" y="71"/>
                    </a:lnTo>
                    <a:lnTo>
                      <a:pt x="168" y="29"/>
                    </a:lnTo>
                    <a:lnTo>
                      <a:pt x="121" y="0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1614240" y="5300640"/>
                <a:ext cx="174600" cy="243000"/>
              </a:xfrm>
              <a:custGeom>
                <a:avLst/>
                <a:gdLst/>
                <a:ahLst/>
                <a:rect l="l" t="t" r="r" b="b"/>
                <a:pathLst>
                  <a:path w="110" h="153">
                    <a:moveTo>
                      <a:pt x="0" y="54"/>
                    </a:moveTo>
                    <a:lnTo>
                      <a:pt x="15" y="45"/>
                    </a:lnTo>
                    <a:lnTo>
                      <a:pt x="79" y="153"/>
                    </a:lnTo>
                    <a:lnTo>
                      <a:pt x="110" y="135"/>
                    </a:lnTo>
                    <a:lnTo>
                      <a:pt x="46" y="27"/>
                    </a:lnTo>
                    <a:lnTo>
                      <a:pt x="62" y="18"/>
                    </a:lnTo>
                    <a:lnTo>
                      <a:pt x="9" y="0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2608200" y="5138640"/>
                <a:ext cx="155520" cy="258840"/>
              </a:xfrm>
              <a:custGeom>
                <a:avLst/>
                <a:gdLst/>
                <a:ahLst/>
                <a:rect l="l" t="t" r="r" b="b"/>
                <a:pathLst>
                  <a:path w="98" h="163">
                    <a:moveTo>
                      <a:pt x="0" y="53"/>
                    </a:moveTo>
                    <a:lnTo>
                      <a:pt x="17" y="46"/>
                    </a:lnTo>
                    <a:lnTo>
                      <a:pt x="65" y="163"/>
                    </a:lnTo>
                    <a:lnTo>
                      <a:pt x="98" y="149"/>
                    </a:lnTo>
                    <a:lnTo>
                      <a:pt x="50" y="32"/>
                    </a:lnTo>
                    <a:lnTo>
                      <a:pt x="67" y="25"/>
                    </a:lnTo>
                    <a:lnTo>
                      <a:pt x="18" y="0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2366640" y="471024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242460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6" name=""/>
            <p:cNvSpPr/>
            <p:nvPr/>
          </p:nvSpPr>
          <p:spPr>
            <a:xfrm>
              <a:off x="593280" y="3353040"/>
              <a:ext cx="106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ollec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3772080" y="3768840"/>
              <a:ext cx="3887640" cy="5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8" name=""/>
            <p:cNvGrpSpPr/>
            <p:nvPr/>
          </p:nvGrpSpPr>
          <p:grpSpPr>
            <a:xfrm>
              <a:off x="4267080" y="4073760"/>
              <a:ext cx="2585880" cy="1884240"/>
              <a:chOff x="4267080" y="4073760"/>
              <a:chExt cx="2585880" cy="1884240"/>
            </a:xfrm>
          </p:grpSpPr>
          <p:sp>
            <p:nvSpPr>
              <p:cNvPr id="449" name=""/>
              <p:cNvSpPr/>
              <p:nvPr/>
            </p:nvSpPr>
            <p:spPr>
              <a:xfrm>
                <a:off x="4267080" y="520560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5125680" y="490068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4592520" y="422136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5511600" y="5575320"/>
                <a:ext cx="38232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6175080" y="471024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623448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5598720" y="407376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6468840" y="546120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4511520" y="4595760"/>
                <a:ext cx="199800" cy="611280"/>
              </a:xfrm>
              <a:custGeom>
                <a:avLst/>
                <a:gdLst/>
                <a:ahLst/>
                <a:rect l="l" t="t" r="r" b="b"/>
                <a:pathLst>
                  <a:path w="126" h="385">
                    <a:moveTo>
                      <a:pt x="126" y="1"/>
                    </a:moveTo>
                    <a:lnTo>
                      <a:pt x="120" y="0"/>
                    </a:lnTo>
                    <a:lnTo>
                      <a:pt x="0" y="384"/>
                    </a:lnTo>
                    <a:lnTo>
                      <a:pt x="6" y="385"/>
                    </a:lnTo>
                    <a:lnTo>
                      <a:pt x="12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5411520" y="5251680"/>
                <a:ext cx="196920" cy="345960"/>
              </a:xfrm>
              <a:custGeom>
                <a:avLst/>
                <a:gdLst/>
                <a:ahLst/>
                <a:rect l="l" t="t" r="r" b="b"/>
                <a:pathLst>
                  <a:path w="124" h="218">
                    <a:moveTo>
                      <a:pt x="5" y="0"/>
                    </a:moveTo>
                    <a:lnTo>
                      <a:pt x="0" y="2"/>
                    </a:lnTo>
                    <a:lnTo>
                      <a:pt x="119" y="218"/>
                    </a:lnTo>
                    <a:lnTo>
                      <a:pt x="124" y="216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5410080" y="4432320"/>
                <a:ext cx="274320" cy="496800"/>
              </a:xfrm>
              <a:custGeom>
                <a:avLst/>
                <a:gdLst/>
                <a:ahLst/>
                <a:rect l="l" t="t" r="r" b="b"/>
                <a:pathLst>
                  <a:path w="173" h="313">
                    <a:moveTo>
                      <a:pt x="173" y="2"/>
                    </a:moveTo>
                    <a:lnTo>
                      <a:pt x="168" y="0"/>
                    </a:lnTo>
                    <a:lnTo>
                      <a:pt x="0" y="311"/>
                    </a:lnTo>
                    <a:lnTo>
                      <a:pt x="5" y="313"/>
                    </a:lnTo>
                    <a:lnTo>
                      <a:pt x="17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5517720" y="4938840"/>
                <a:ext cx="648000" cy="123840"/>
              </a:xfrm>
              <a:custGeom>
                <a:avLst/>
                <a:gdLst/>
                <a:ahLst/>
                <a:rect l="l" t="t" r="r" b="b"/>
                <a:pathLst>
                  <a:path w="408" h="78">
                    <a:moveTo>
                      <a:pt x="0" y="72"/>
                    </a:moveTo>
                    <a:lnTo>
                      <a:pt x="1" y="78"/>
                    </a:lnTo>
                    <a:lnTo>
                      <a:pt x="408" y="6"/>
                    </a:lnTo>
                    <a:lnTo>
                      <a:pt x="407" y="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6422760" y="5085000"/>
                <a:ext cx="160200" cy="382320"/>
              </a:xfrm>
              <a:custGeom>
                <a:avLst/>
                <a:gdLst/>
                <a:ahLst/>
                <a:rect l="l" t="t" r="r" b="b"/>
                <a:pathLst>
                  <a:path w="101" h="241">
                    <a:moveTo>
                      <a:pt x="6" y="0"/>
                    </a:moveTo>
                    <a:lnTo>
                      <a:pt x="0" y="2"/>
                    </a:lnTo>
                    <a:lnTo>
                      <a:pt x="95" y="241"/>
                    </a:lnTo>
                    <a:lnTo>
                      <a:pt x="101" y="239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4927320" y="4551480"/>
                <a:ext cx="272880" cy="384120"/>
              </a:xfrm>
              <a:custGeom>
                <a:avLst/>
                <a:gdLst/>
                <a:ahLst/>
                <a:rect l="l" t="t" r="r" b="b"/>
                <a:pathLst>
                  <a:path w="172" h="242">
                    <a:moveTo>
                      <a:pt x="5" y="0"/>
                    </a:moveTo>
                    <a:lnTo>
                      <a:pt x="0" y="3"/>
                    </a:lnTo>
                    <a:lnTo>
                      <a:pt x="167" y="242"/>
                    </a:lnTo>
                    <a:lnTo>
                      <a:pt x="172" y="239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4532040" y="4783320"/>
                <a:ext cx="139680" cy="263520"/>
              </a:xfrm>
              <a:custGeom>
                <a:avLst/>
                <a:gdLst/>
                <a:ahLst/>
                <a:rect l="l" t="t" r="r" b="b"/>
                <a:pathLst>
                  <a:path w="88" h="166">
                    <a:moveTo>
                      <a:pt x="69" y="137"/>
                    </a:moveTo>
                    <a:lnTo>
                      <a:pt x="52" y="131"/>
                    </a:lnTo>
                    <a:lnTo>
                      <a:pt x="88" y="11"/>
                    </a:lnTo>
                    <a:lnTo>
                      <a:pt x="54" y="0"/>
                    </a:lnTo>
                    <a:lnTo>
                      <a:pt x="18" y="121"/>
                    </a:lnTo>
                    <a:lnTo>
                      <a:pt x="0" y="116"/>
                    </a:lnTo>
                    <a:lnTo>
                      <a:pt x="23" y="166"/>
                    </a:lnTo>
                    <a:lnTo>
                      <a:pt x="69" y="137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4966920" y="4618080"/>
                <a:ext cx="182520" cy="238320"/>
              </a:xfrm>
              <a:custGeom>
                <a:avLst/>
                <a:gdLst/>
                <a:ahLst/>
                <a:rect l="l" t="t" r="r" b="b"/>
                <a:pathLst>
                  <a:path w="115" h="150">
                    <a:moveTo>
                      <a:pt x="0" y="55"/>
                    </a:moveTo>
                    <a:lnTo>
                      <a:pt x="15" y="45"/>
                    </a:lnTo>
                    <a:lnTo>
                      <a:pt x="85" y="150"/>
                    </a:lnTo>
                    <a:lnTo>
                      <a:pt x="115" y="130"/>
                    </a:lnTo>
                    <a:lnTo>
                      <a:pt x="45" y="25"/>
                    </a:lnTo>
                    <a:lnTo>
                      <a:pt x="60" y="15"/>
                    </a:lnTo>
                    <a:lnTo>
                      <a:pt x="7" y="0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5462280" y="4559400"/>
                <a:ext cx="168120" cy="249120"/>
              </a:xfrm>
              <a:custGeom>
                <a:avLst/>
                <a:gdLst/>
                <a:ahLst/>
                <a:rect l="l" t="t" r="r" b="b"/>
                <a:pathLst>
                  <a:path w="106" h="157">
                    <a:moveTo>
                      <a:pt x="43" y="20"/>
                    </a:moveTo>
                    <a:lnTo>
                      <a:pt x="58" y="28"/>
                    </a:lnTo>
                    <a:lnTo>
                      <a:pt x="0" y="140"/>
                    </a:lnTo>
                    <a:lnTo>
                      <a:pt x="32" y="157"/>
                    </a:lnTo>
                    <a:lnTo>
                      <a:pt x="90" y="45"/>
                    </a:lnTo>
                    <a:lnTo>
                      <a:pt x="106" y="53"/>
                    </a:lnTo>
                    <a:lnTo>
                      <a:pt x="94" y="0"/>
                    </a:lnTo>
                    <a:lnTo>
                      <a:pt x="43" y="20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5709960" y="4951440"/>
                <a:ext cx="268200" cy="115920"/>
              </a:xfrm>
              <a:custGeom>
                <a:avLst/>
                <a:gdLst/>
                <a:ahLst/>
                <a:rect l="l" t="t" r="r" b="b"/>
                <a:pathLst>
                  <a:path w="169" h="73">
                    <a:moveTo>
                      <a:pt x="47" y="73"/>
                    </a:moveTo>
                    <a:lnTo>
                      <a:pt x="45" y="55"/>
                    </a:lnTo>
                    <a:lnTo>
                      <a:pt x="169" y="36"/>
                    </a:lnTo>
                    <a:lnTo>
                      <a:pt x="164" y="0"/>
                    </a:lnTo>
                    <a:lnTo>
                      <a:pt x="39" y="20"/>
                    </a:lnTo>
                    <a:lnTo>
                      <a:pt x="37" y="2"/>
                    </a:lnTo>
                    <a:lnTo>
                      <a:pt x="0" y="44"/>
                    </a:lnTo>
                    <a:lnTo>
                      <a:pt x="47" y="73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5418000" y="5284800"/>
                <a:ext cx="171360" cy="246240"/>
              </a:xfrm>
              <a:custGeom>
                <a:avLst/>
                <a:gdLst/>
                <a:ahLst/>
                <a:rect l="l" t="t" r="r" b="b"/>
                <a:pathLst>
                  <a:path w="108" h="155">
                    <a:moveTo>
                      <a:pt x="108" y="101"/>
                    </a:moveTo>
                    <a:lnTo>
                      <a:pt x="92" y="110"/>
                    </a:lnTo>
                    <a:lnTo>
                      <a:pt x="31" y="0"/>
                    </a:lnTo>
                    <a:lnTo>
                      <a:pt x="0" y="17"/>
                    </a:lnTo>
                    <a:lnTo>
                      <a:pt x="61" y="127"/>
                    </a:lnTo>
                    <a:lnTo>
                      <a:pt x="45" y="136"/>
                    </a:lnTo>
                    <a:lnTo>
                      <a:pt x="97" y="155"/>
                    </a:lnTo>
                    <a:lnTo>
                      <a:pt x="108" y="101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6422760" y="5127840"/>
                <a:ext cx="150840" cy="258480"/>
              </a:xfrm>
              <a:custGeom>
                <a:avLst/>
                <a:gdLst/>
                <a:ahLst/>
                <a:rect l="l" t="t" r="r" b="b"/>
                <a:pathLst>
                  <a:path w="95" h="163">
                    <a:moveTo>
                      <a:pt x="95" y="111"/>
                    </a:moveTo>
                    <a:lnTo>
                      <a:pt x="78" y="118"/>
                    </a:lnTo>
                    <a:lnTo>
                      <a:pt x="33" y="0"/>
                    </a:lnTo>
                    <a:lnTo>
                      <a:pt x="0" y="13"/>
                    </a:lnTo>
                    <a:lnTo>
                      <a:pt x="45" y="131"/>
                    </a:lnTo>
                    <a:lnTo>
                      <a:pt x="28" y="137"/>
                    </a:lnTo>
                    <a:lnTo>
                      <a:pt x="77" y="163"/>
                    </a:lnTo>
                    <a:lnTo>
                      <a:pt x="95" y="111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4267080" y="520704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5127480" y="490212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4593960" y="4221360"/>
                <a:ext cx="382680" cy="38232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5513040" y="557532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6176520" y="471168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623448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5600520" y="407520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6470280" y="546264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7" name=""/>
            <p:cNvSpPr/>
            <p:nvPr/>
          </p:nvSpPr>
          <p:spPr>
            <a:xfrm>
              <a:off x="4479480" y="3276720"/>
              <a:ext cx="1402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istribu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"/>
          <p:cNvSpPr/>
          <p:nvPr/>
        </p:nvSpPr>
        <p:spPr>
          <a:xfrm>
            <a:off x="6781680" y="6324480"/>
            <a:ext cx="214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P. Gre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374400" y="1905120"/>
            <a:ext cx="756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lization of forwards-backwards algo. /RTS smoothe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chains to tr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1363320" y="1143000"/>
            <a:ext cx="57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ka Pearl’s algorithm, sum-product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introduction to graphical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overview of B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P: parallel, distributed ver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2" name=""/>
          <p:cNvGrpSpPr/>
          <p:nvPr/>
        </p:nvGrpSpPr>
        <p:grpSpPr>
          <a:xfrm>
            <a:off x="457200" y="5486400"/>
            <a:ext cx="7269120" cy="1155600"/>
            <a:chOff x="457200" y="5486400"/>
            <a:chExt cx="7269120" cy="1155600"/>
          </a:xfrm>
        </p:grpSpPr>
        <p:pic>
          <p:nvPicPr>
            <p:cNvPr id="483" name="" descr=""/>
            <p:cNvPicPr/>
            <p:nvPr/>
          </p:nvPicPr>
          <p:blipFill>
            <a:blip r:embed="rId1"/>
            <a:stretch/>
          </p:blipFill>
          <p:spPr>
            <a:xfrm>
              <a:off x="457200" y="5486400"/>
              <a:ext cx="7269120" cy="115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4" name=""/>
            <p:cNvSpPr/>
            <p:nvPr/>
          </p:nvSpPr>
          <p:spPr>
            <a:xfrm>
              <a:off x="457200" y="5867280"/>
              <a:ext cx="15238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09680" y="6477120"/>
              <a:ext cx="144792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3733920" y="6477120"/>
              <a:ext cx="1447560" cy="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7" name=""/>
          <p:cNvGrpSpPr/>
          <p:nvPr/>
        </p:nvGrpSpPr>
        <p:grpSpPr>
          <a:xfrm>
            <a:off x="4343400" y="2133720"/>
            <a:ext cx="3429000" cy="1710720"/>
            <a:chOff x="4343400" y="2133720"/>
            <a:chExt cx="3429000" cy="1710720"/>
          </a:xfrm>
        </p:grpSpPr>
        <p:sp>
          <p:nvSpPr>
            <p:cNvPr id="488" name=""/>
            <p:cNvSpPr/>
            <p:nvPr/>
          </p:nvSpPr>
          <p:spPr>
            <a:xfrm>
              <a:off x="4419360" y="2168280"/>
              <a:ext cx="685800" cy="609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343400" y="3235320"/>
              <a:ext cx="68580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7162560" y="2778120"/>
              <a:ext cx="60984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5867280" y="2778120"/>
              <a:ext cx="60948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 flipV="1">
              <a:off x="5029200" y="3159000"/>
              <a:ext cx="9144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105160" y="2549520"/>
              <a:ext cx="838440" cy="38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6476760" y="30826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6629400" y="2854080"/>
              <a:ext cx="6094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5257800" y="2396880"/>
              <a:ext cx="533160" cy="2282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 flipV="1">
              <a:off x="5257800" y="3387600"/>
              <a:ext cx="609480" cy="22824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44884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4488480" y="32004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5936400" y="27432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7231680" y="28191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2" name=""/>
          <p:cNvGrpSpPr/>
          <p:nvPr/>
        </p:nvGrpSpPr>
        <p:grpSpPr>
          <a:xfrm>
            <a:off x="380880" y="2057400"/>
            <a:ext cx="3429000" cy="1711440"/>
            <a:chOff x="380880" y="2057400"/>
            <a:chExt cx="3429000" cy="1711440"/>
          </a:xfrm>
        </p:grpSpPr>
        <p:sp>
          <p:nvSpPr>
            <p:cNvPr id="503" name=""/>
            <p:cNvSpPr/>
            <p:nvPr/>
          </p:nvSpPr>
          <p:spPr>
            <a:xfrm>
              <a:off x="457200" y="2092320"/>
              <a:ext cx="685800" cy="609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380880" y="3159000"/>
              <a:ext cx="68580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3200400" y="2701800"/>
              <a:ext cx="60948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1904760" y="2701800"/>
              <a:ext cx="60984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 flipV="1">
              <a:off x="1066680" y="3083040"/>
              <a:ext cx="9144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1143000" y="2473200"/>
              <a:ext cx="83808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2514600" y="300672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1295280" y="2320920"/>
              <a:ext cx="533520" cy="2286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 flipV="1">
              <a:off x="1295280" y="3311280"/>
              <a:ext cx="609480" cy="22860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525960" y="20574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525960" y="31240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1973880" y="2666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269160" y="27432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 flipH="1">
              <a:off x="2514240" y="2743200"/>
              <a:ext cx="6858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7" name=""/>
          <p:cNvGrpSpPr/>
          <p:nvPr/>
        </p:nvGrpSpPr>
        <p:grpSpPr>
          <a:xfrm>
            <a:off x="380880" y="4191120"/>
            <a:ext cx="7467840" cy="1143000"/>
            <a:chOff x="380880" y="4191120"/>
            <a:chExt cx="7467840" cy="1143000"/>
          </a:xfrm>
        </p:grpSpPr>
        <p:pic>
          <p:nvPicPr>
            <p:cNvPr id="518" name="" descr=""/>
            <p:cNvPicPr/>
            <p:nvPr/>
          </p:nvPicPr>
          <p:blipFill>
            <a:blip r:embed="rId2"/>
            <a:stretch/>
          </p:blipFill>
          <p:spPr>
            <a:xfrm>
              <a:off x="380880" y="4191120"/>
              <a:ext cx="746784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9" name=""/>
            <p:cNvSpPr/>
            <p:nvPr/>
          </p:nvSpPr>
          <p:spPr>
            <a:xfrm>
              <a:off x="1295280" y="5334120"/>
              <a:ext cx="144792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429000" y="5334120"/>
              <a:ext cx="1447920" cy="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5638680" y="5334120"/>
              <a:ext cx="15242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2" name=""/>
          <p:cNvSpPr/>
          <p:nvPr/>
        </p:nvSpPr>
        <p:spPr>
          <a:xfrm>
            <a:off x="2592720" y="1981080"/>
            <a:ext cx="132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ge 1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5793120" y="1981080"/>
            <a:ext cx="132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ge 2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erence in general graph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P is only guaranteed to be correct for tre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general graph should be converted to a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junction tre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which satisfies the running intersection property (RI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IP ensures local propagation =&gt; global consistenc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1143000" y="4724280"/>
            <a:ext cx="914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1145520" y="4952880"/>
            <a:ext cx="80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2590920" y="4724280"/>
            <a:ext cx="9144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745360" y="4952880"/>
            <a:ext cx="5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4191120" y="4800600"/>
            <a:ext cx="914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4269960" y="4952880"/>
            <a:ext cx="80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C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2057400" y="5181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3505320" y="5181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7086600" y="4800600"/>
            <a:ext cx="914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5562720" y="4800600"/>
            <a:ext cx="9144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5105520" y="5257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6477120" y="52578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7225200" y="49179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7530120" y="49179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5869440" y="49528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2286000" y="60199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410080" y="609588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2364480" y="6095880"/>
            <a:ext cx="104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BC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5472720" y="6054840"/>
            <a:ext cx="77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unction tre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6" name=""/>
          <p:cNvGrpSpPr/>
          <p:nvPr/>
        </p:nvGrpSpPr>
        <p:grpSpPr>
          <a:xfrm>
            <a:off x="304920" y="914400"/>
            <a:ext cx="8229240" cy="2590920"/>
            <a:chOff x="304920" y="914400"/>
            <a:chExt cx="8229240" cy="2590920"/>
          </a:xfrm>
        </p:grpSpPr>
        <p:pic>
          <p:nvPicPr>
            <p:cNvPr id="547" name="" descr=""/>
            <p:cNvPicPr/>
            <p:nvPr/>
          </p:nvPicPr>
          <p:blipFill>
            <a:blip r:embed="rId1"/>
            <a:stretch/>
          </p:blipFill>
          <p:spPr>
            <a:xfrm>
              <a:off x="304920" y="914400"/>
              <a:ext cx="3757320" cy="259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8" name="fig15.10" descr=""/>
            <p:cNvPicPr/>
            <p:nvPr/>
          </p:nvPicPr>
          <p:blipFill>
            <a:blip r:embed="rId2"/>
            <a:stretch/>
          </p:blipFill>
          <p:spPr>
            <a:xfrm>
              <a:off x="4969440" y="1245240"/>
              <a:ext cx="3564720" cy="200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9" name=""/>
            <p:cNvSpPr/>
            <p:nvPr/>
          </p:nvSpPr>
          <p:spPr>
            <a:xfrm>
              <a:off x="1859760" y="1973880"/>
              <a:ext cx="814320" cy="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303080" y="1841400"/>
              <a:ext cx="1036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1" name=""/>
          <p:cNvSpPr/>
          <p:nvPr/>
        </p:nvSpPr>
        <p:spPr>
          <a:xfrm>
            <a:off x="289080" y="3774960"/>
            <a:ext cx="78008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ralize” G (if directed), ie., marry parents with child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an elimination ordering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e G chordal by triangulating according to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e “meganodes” from maximal cliques C of chordal 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nect meganodes into junction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tree is the min spanning tree of the j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Symbol" charset="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Symbol" charset="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3654720" y="3352680"/>
            <a:ext cx="376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odes in jtree are sets of rv’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 flipV="1">
            <a:off x="6019920" y="2361960"/>
            <a:ext cx="22860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utational complexity of exact discrete inferenc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G have N discrete nodes with S val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w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be the width induced by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ie., the size of the largest cli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m: Inference takes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N 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m: finding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argmin w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is NP-h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m: For an N=n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n grid, w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367560" y="5638680"/>
            <a:ext cx="806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xact inference is computationally intractable in many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roximate in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avoid exponential complexity of exact inference in discrete loopy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cannot compute messages in closed form (even for trees) in the non-linear/non-Gaussian c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erministic approximations: loopy BP, mean field, structured variational, 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chastic approximations: MCMC (Gibbs sampling), likelihood weighting, particle filtering, 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295560" y="4952880"/>
            <a:ext cx="67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Algorithms make different speed/accuracy tradeof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268920" y="5486400"/>
            <a:ext cx="668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Should provide the user with a choice of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ameter estimation: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Symbo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 sele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3" name="" descr=""/>
          <p:cNvPicPr/>
          <p:nvPr/>
        </p:nvPicPr>
        <p:blipFill>
          <a:blip r:embed="rId1"/>
          <a:stretch/>
        </p:blipFill>
        <p:spPr>
          <a:xfrm>
            <a:off x="1447920" y="4952880"/>
            <a:ext cx="5856120" cy="712800"/>
          </a:xfrm>
          <a:prstGeom prst="rect">
            <a:avLst/>
          </a:prstGeom>
          <a:ln w="0">
            <a:noFill/>
          </a:ln>
        </p:spPr>
      </p:pic>
      <p:pic>
        <p:nvPicPr>
          <p:cNvPr id="564" name="" descr=""/>
          <p:cNvPicPr/>
          <p:nvPr/>
        </p:nvPicPr>
        <p:blipFill>
          <a:blip r:embed="rId2"/>
          <a:stretch/>
        </p:blipFill>
        <p:spPr>
          <a:xfrm>
            <a:off x="380880" y="2819520"/>
            <a:ext cx="835668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ameter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6" name="" descr=""/>
          <p:cNvPicPr/>
          <p:nvPr/>
        </p:nvPicPr>
        <p:blipFill>
          <a:blip r:embed="rId1"/>
          <a:stretch/>
        </p:blipFill>
        <p:spPr>
          <a:xfrm>
            <a:off x="2971800" y="1600200"/>
            <a:ext cx="6743880" cy="7867800"/>
          </a:xfrm>
          <a:prstGeom prst="rect">
            <a:avLst/>
          </a:prstGeom>
          <a:ln w="0">
            <a:noFill/>
          </a:ln>
        </p:spPr>
      </p:pic>
      <p:sp>
        <p:nvSpPr>
          <p:cNvPr id="567" name=""/>
          <p:cNvSpPr/>
          <p:nvPr/>
        </p:nvSpPr>
        <p:spPr>
          <a:xfrm>
            <a:off x="7110000" y="632448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ure from M. Jord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3881520" y="1143000"/>
            <a:ext cx="490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ditional Probability Tables (CP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9" name=""/>
          <p:cNvGraphicFramePr/>
          <p:nvPr/>
        </p:nvGraphicFramePr>
        <p:xfrm>
          <a:off x="228600" y="1828800"/>
          <a:ext cx="2819520" cy="2489040"/>
        </p:xfrm>
        <a:graphic>
          <a:graphicData uri="http://schemas.openxmlformats.org/drawingml/2006/table">
            <a:tbl>
              <a:tblPr/>
              <a:tblGrid>
                <a:gridCol w="457200"/>
                <a:gridCol w="457200"/>
                <a:gridCol w="457200"/>
                <a:gridCol w="457200"/>
                <a:gridCol w="457200"/>
                <a:gridCol w="533520"/>
              </a:tblGrid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0" name=""/>
          <p:cNvSpPr/>
          <p:nvPr/>
        </p:nvSpPr>
        <p:spPr>
          <a:xfrm>
            <a:off x="3276720" y="2895480"/>
            <a:ext cx="6858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456480" y="1143000"/>
            <a:ext cx="108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d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ameter learning in DA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3" name="" descr=""/>
          <p:cNvPicPr/>
          <p:nvPr/>
        </p:nvPicPr>
        <p:blipFill>
          <a:blip r:embed="rId1"/>
          <a:stretch/>
        </p:blipFill>
        <p:spPr>
          <a:xfrm>
            <a:off x="533520" y="1295280"/>
            <a:ext cx="6400800" cy="1249560"/>
          </a:xfrm>
          <a:prstGeom prst="rect">
            <a:avLst/>
          </a:prstGeom>
          <a:ln w="0">
            <a:noFill/>
          </a:ln>
        </p:spPr>
      </p:pic>
      <p:sp>
        <p:nvSpPr>
          <p:cNvPr id="574" name=""/>
          <p:cNvSpPr/>
          <p:nvPr/>
        </p:nvSpPr>
        <p:spPr>
          <a:xfrm>
            <a:off x="219960" y="914400"/>
            <a:ext cx="866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a DAG, the log-likelihood decomposes into a sum of local te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2057400" y="3124080"/>
            <a:ext cx="61452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3260880" y="3124080"/>
            <a:ext cx="61596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4491000" y="3124080"/>
            <a:ext cx="61452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2057400" y="4049640"/>
            <a:ext cx="61452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2338560" y="3606840"/>
            <a:ext cx="0" cy="442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4491000" y="4089240"/>
            <a:ext cx="61452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4772160" y="3646440"/>
            <a:ext cx="0" cy="442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3260880" y="4089240"/>
            <a:ext cx="61596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3543480" y="3646440"/>
            <a:ext cx="0" cy="442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2697120" y="3365640"/>
            <a:ext cx="5637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3876840" y="3365640"/>
            <a:ext cx="563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2169360" y="31240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3361320" y="31240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4580640" y="31240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3361320" y="40384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223200" y="2590920"/>
            <a:ext cx="656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nce can optimize each CPD independently, e.g.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1" name="" descr=""/>
          <p:cNvPicPr/>
          <p:nvPr/>
        </p:nvPicPr>
        <p:blipFill>
          <a:blip r:embed="rId2"/>
          <a:stretch/>
        </p:blipFill>
        <p:spPr>
          <a:xfrm>
            <a:off x="304920" y="5877000"/>
            <a:ext cx="7493040" cy="981000"/>
          </a:xfrm>
          <a:prstGeom prst="rect">
            <a:avLst/>
          </a:prstGeom>
          <a:ln w="0">
            <a:noFill/>
          </a:ln>
        </p:spPr>
      </p:pic>
      <p:pic>
        <p:nvPicPr>
          <p:cNvPr id="592" name="" descr=""/>
          <p:cNvPicPr/>
          <p:nvPr/>
        </p:nvPicPr>
        <p:blipFill>
          <a:blip r:embed="rId3"/>
          <a:stretch/>
        </p:blipFill>
        <p:spPr>
          <a:xfrm>
            <a:off x="304920" y="4648320"/>
            <a:ext cx="7778520" cy="93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aling with partial observ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training an HMM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: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hidden, so the log-likelihood no longer decomposes: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use Expectation Maximization (EM) algorithm (Baum Welch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 step: compute expected number of tran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 step : use expected counts as if they were re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uaranteed to converge to a local optimum of 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 can use (constrained) gradient asc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5" name="" descr=""/>
          <p:cNvPicPr/>
          <p:nvPr/>
        </p:nvPicPr>
        <p:blipFill>
          <a:blip r:embed="rId1"/>
          <a:stretch/>
        </p:blipFill>
        <p:spPr>
          <a:xfrm>
            <a:off x="152280" y="1973160"/>
            <a:ext cx="8661600" cy="932040"/>
          </a:xfrm>
          <a:prstGeom prst="rect">
            <a:avLst/>
          </a:prstGeom>
          <a:ln w="0">
            <a:noFill/>
          </a:ln>
        </p:spPr>
      </p:pic>
      <p:pic>
        <p:nvPicPr>
          <p:cNvPr id="596" name="" descr=""/>
          <p:cNvPicPr/>
          <p:nvPr/>
        </p:nvPicPr>
        <p:blipFill>
          <a:blip r:embed="rId2"/>
          <a:stretch/>
        </p:blipFill>
        <p:spPr>
          <a:xfrm>
            <a:off x="1066680" y="5573880"/>
            <a:ext cx="5639040" cy="12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cture learnin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data mining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8" name=""/>
          <p:cNvGraphicFramePr/>
          <p:nvPr/>
        </p:nvGraphicFramePr>
        <p:xfrm>
          <a:off x="4325760" y="2209680"/>
          <a:ext cx="4818240" cy="401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25760" y="2209680"/>
                    <a:ext cx="4818240" cy="401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0" name=""/>
          <p:cNvSpPr/>
          <p:nvPr/>
        </p:nvSpPr>
        <p:spPr>
          <a:xfrm>
            <a:off x="0" y="2743200"/>
            <a:ext cx="4114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 expression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1" name="eisen_label" descr=""/>
          <p:cNvPicPr/>
          <p:nvPr/>
        </p:nvPicPr>
        <p:blipFill>
          <a:blip r:embed="rId3"/>
          <a:stretch/>
        </p:blipFill>
        <p:spPr>
          <a:xfrm>
            <a:off x="-380880" y="3505320"/>
            <a:ext cx="3620880" cy="2714400"/>
          </a:xfrm>
          <a:prstGeom prst="rect">
            <a:avLst/>
          </a:prstGeom>
          <a:ln w="0">
            <a:noFill/>
          </a:ln>
        </p:spPr>
      </p:pic>
      <p:sp>
        <p:nvSpPr>
          <p:cNvPr id="602" name=""/>
          <p:cNvSpPr/>
          <p:nvPr/>
        </p:nvSpPr>
        <p:spPr>
          <a:xfrm>
            <a:off x="3124080" y="3962520"/>
            <a:ext cx="9144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5937120" y="6248520"/>
            <a:ext cx="276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probabilistic model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er probable causes from partial/ noisy observations using Bayes’ rule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rds from acous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s from im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eases from sympto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fidence bounds on predict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risk modeling, information gather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 compression/ channel co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447920" y="2209680"/>
            <a:ext cx="5689440" cy="124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cture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-360" y="990720"/>
            <a:ext cx="87559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rning the optimal structure is NP-hard (except for tre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nce use heuristic search through space of DAGs o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PDAGs or node order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arch algorithms: hill climbing, simulated annealing, G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ring function is often marginal likelihood, or 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roximation like BIC/MDL or A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6" name="" descr=""/>
          <p:cNvPicPr/>
          <p:nvPr/>
        </p:nvPicPr>
        <p:blipFill>
          <a:blip r:embed="rId1"/>
          <a:stretch/>
        </p:blipFill>
        <p:spPr>
          <a:xfrm>
            <a:off x="228600" y="3809880"/>
            <a:ext cx="8083440" cy="2538360"/>
          </a:xfrm>
          <a:prstGeom prst="rect">
            <a:avLst/>
          </a:prstGeom>
          <a:ln w="0">
            <a:noFill/>
          </a:ln>
        </p:spPr>
      </p:pic>
      <p:sp>
        <p:nvSpPr>
          <p:cNvPr id="607" name=""/>
          <p:cNvSpPr/>
          <p:nvPr/>
        </p:nvSpPr>
        <p:spPr>
          <a:xfrm>
            <a:off x="5337720" y="5257800"/>
            <a:ext cx="381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tructural complexity penal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67280" y="5715000"/>
            <a:ext cx="45720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-22860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are graphical models usefu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0" y="18288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Factored representation may have exponentially fewer parameters than full joint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time complexity (less time for inferen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sample complexity (less data for learn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Graph  structure suppo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ular representation of knowle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cal, distributed algorithms for inference and lear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uitive (possibly causal) interpre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The Bayes Net Toolbox for Matla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BN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yet another BN toolbox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Matlab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overview of BNT’s desig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to use B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her GM pro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B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NT is an open-source collection of matlab functions for inference and learning of (directed) graphical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ed in Summer 1997 (DEC CRL), development continued while at UC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ver 100,000 hits and about 30,000 downloads since May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out 43,000 lines of code (of which 8,000 are comments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yet another BN toolbox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609480" y="457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-240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1997, there were very few BN programs, and all failed to satisfy the following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desiderat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real-valued (vector)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learning (params and stru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time se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exact and approximate infe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eparate API from 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MRFs as well as B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possible to add new models and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f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open-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easy to read/ modif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f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285560" y="6172200"/>
            <a:ext cx="586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NT meets all these criteria except for the l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comparison of GM softw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9" name="bnsoft_snagit" descr=""/>
          <p:cNvPicPr/>
          <p:nvPr/>
        </p:nvPicPr>
        <p:blipFill>
          <a:blip r:embed="rId1"/>
          <a:stretch/>
        </p:blipFill>
        <p:spPr>
          <a:xfrm>
            <a:off x="1219320" y="952560"/>
            <a:ext cx="7018200" cy="5905440"/>
          </a:xfrm>
          <a:prstGeom prst="rect">
            <a:avLst/>
          </a:prstGeom>
          <a:ln w="0">
            <a:noFill/>
          </a:ln>
        </p:spPr>
      </p:pic>
      <p:sp>
        <p:nvSpPr>
          <p:cNvPr id="620" name=""/>
          <p:cNvSpPr/>
          <p:nvPr/>
        </p:nvSpPr>
        <p:spPr>
          <a:xfrm>
            <a:off x="228600" y="3581280"/>
            <a:ext cx="86868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www.ai.mit.edu/~murphyk/Software/Bayes/bnsoft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 of existing GM softw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~8 commercial produc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nalytica, BayesiaLab, Bayesware, Business Navigator, Ergo,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Hug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MIM,  Netica)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ocused on data mining and decision support; most have free “student” ver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~30 academic programs, of which ~20 have source code (mostly Java, some C++/ Lis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focus on exact inference in discrete, static, directed graphs (notable exceptions: BUGS and VIB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y have nice GUIs and database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79360" y="5908680"/>
            <a:ext cx="851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NT contains more features than most of these packages combined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Matla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interactive development enviro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numerical algorithms (e.g., SV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data visu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y other toolboxes, e.g., netl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de is high-level and easy to read (e.g., Kalman filter in 5 lines of cod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lab is the lingua franca of engineers and N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ercial license is expen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or support for complex data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languages I would consider in hindsigh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ush, R, Ocaml, Numpy, Lisp, Jav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45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NT’s class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bnet, mnet, DBN, factor graph, influence (decision) dia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PD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Gaussian, tabular, softmax, et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otentia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discrete, Gaussian, mix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Inference eng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ct - junction tree, variable elim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roximate - (loopy) belief propagation, samp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Learning eng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meters – EM, (conjugate gradi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ucture - MCMC over graphs, K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: mixture of exper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9" name="mixexp_data" descr=""/>
          <p:cNvPicPr/>
          <p:nvPr/>
        </p:nvPicPr>
        <p:blipFill>
          <a:blip r:embed="rId1"/>
          <a:stretch/>
        </p:blipFill>
        <p:spPr>
          <a:xfrm>
            <a:off x="4114800" y="1143000"/>
            <a:ext cx="3886200" cy="3056040"/>
          </a:xfrm>
          <a:prstGeom prst="rect">
            <a:avLst/>
          </a:prstGeom>
          <a:ln w="0">
            <a:noFill/>
          </a:ln>
        </p:spPr>
      </p:pic>
      <p:grpSp>
        <p:nvGrpSpPr>
          <p:cNvPr id="630" name=""/>
          <p:cNvGrpSpPr/>
          <p:nvPr/>
        </p:nvGrpSpPr>
        <p:grpSpPr>
          <a:xfrm>
            <a:off x="905400" y="1219320"/>
            <a:ext cx="1094760" cy="2971800"/>
            <a:chOff x="905400" y="1219320"/>
            <a:chExt cx="1094760" cy="2971800"/>
          </a:xfrm>
        </p:grpSpPr>
        <p:sp>
          <p:nvSpPr>
            <p:cNvPr id="631" name=""/>
            <p:cNvSpPr/>
            <p:nvPr/>
          </p:nvSpPr>
          <p:spPr>
            <a:xfrm>
              <a:off x="1162080" y="12193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162080" y="35053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238040" y="24386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392840" y="25146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619280" y="30481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619280" y="19814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37" name=""/>
            <p:cNvCxnSpPr>
              <a:stCxn id="631" idx="2"/>
              <a:endCxn id="632" idx="2"/>
            </p:cNvCxnSpPr>
            <p:nvPr/>
          </p:nvCxnSpPr>
          <p:spPr>
            <a:xfrm flipH="1" flipV="1" rot="10800000">
              <a:off x="1142640" y="15620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pic>
        <p:nvPicPr>
          <p:cNvPr id="638" name="" descr=""/>
          <p:cNvPicPr/>
          <p:nvPr/>
        </p:nvPicPr>
        <p:blipFill>
          <a:blip r:embed="rId2"/>
          <a:stretch/>
        </p:blipFill>
        <p:spPr>
          <a:xfrm>
            <a:off x="533520" y="4419720"/>
            <a:ext cx="4724280" cy="1544400"/>
          </a:xfrm>
          <a:prstGeom prst="rect">
            <a:avLst/>
          </a:prstGeom>
          <a:ln w="0">
            <a:noFill/>
          </a:ln>
        </p:spPr>
      </p:pic>
      <p:pic>
        <p:nvPicPr>
          <p:cNvPr id="639" name="" descr=""/>
          <p:cNvPicPr/>
          <p:nvPr/>
        </p:nvPicPr>
        <p:blipFill>
          <a:blip r:embed="rId3"/>
          <a:stretch/>
        </p:blipFill>
        <p:spPr>
          <a:xfrm>
            <a:off x="419040" y="5942160"/>
            <a:ext cx="8078760" cy="639720"/>
          </a:xfrm>
          <a:prstGeom prst="rect">
            <a:avLst/>
          </a:prstGeom>
          <a:ln w="0">
            <a:noFill/>
          </a:ln>
        </p:spPr>
      </p:pic>
      <p:sp>
        <p:nvSpPr>
          <p:cNvPr id="640" name=""/>
          <p:cNvSpPr/>
          <p:nvPr/>
        </p:nvSpPr>
        <p:spPr>
          <a:xfrm>
            <a:off x="4495680" y="1905120"/>
            <a:ext cx="1600200" cy="19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V="1">
            <a:off x="6095880" y="1981080"/>
            <a:ext cx="167652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5465520" y="4765680"/>
            <a:ext cx="324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ftmax/logistic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graphical mode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GM is a parsimonious representation of a joint probability distribution,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nodes represent random vari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edges represent direct dependence (“causality” in the directed cas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lack of edges represent conditional independenc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. Making the grap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4" name=""/>
          <p:cNvGrpSpPr/>
          <p:nvPr/>
        </p:nvGrpSpPr>
        <p:grpSpPr>
          <a:xfrm>
            <a:off x="7611120" y="1676520"/>
            <a:ext cx="1094760" cy="2971800"/>
            <a:chOff x="7611120" y="1676520"/>
            <a:chExt cx="1094760" cy="2971800"/>
          </a:xfrm>
        </p:grpSpPr>
        <p:sp>
          <p:nvSpPr>
            <p:cNvPr id="645" name=""/>
            <p:cNvSpPr/>
            <p:nvPr/>
          </p:nvSpPr>
          <p:spPr>
            <a:xfrm>
              <a:off x="78678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78678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9437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80985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83250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83250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1" name=""/>
            <p:cNvCxnSpPr>
              <a:stCxn id="645" idx="2"/>
              <a:endCxn id="646" idx="2"/>
            </p:cNvCxnSpPr>
            <p:nvPr/>
          </p:nvCxnSpPr>
          <p:spPr>
            <a:xfrm flipH="1" flipV="1" rot="10800000">
              <a:off x="78483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52" name=""/>
          <p:cNvSpPr/>
          <p:nvPr/>
        </p:nvSpPr>
        <p:spPr>
          <a:xfrm>
            <a:off x="287640" y="1590840"/>
            <a:ext cx="3838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 = 1; Q = 2; Y = 3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 = zeros(3,3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(X, [Q Y]) 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(Q, Y) 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28160" y="3546360"/>
            <a:ext cx="6725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phs are (sparse) adjacency matr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UI would be useful for creating complex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etitive graph structure (e.g., chains, grids) is be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d using a script (as above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. Making the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514080" y="1971720"/>
            <a:ext cx="6215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ode_sizes = [1 2 1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nodes = [2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 = mk_bnet(dag, node_sizes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‘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iscrete’, dnod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611120" y="1676520"/>
            <a:ext cx="1094760" cy="2971800"/>
            <a:chOff x="7611120" y="1676520"/>
            <a:chExt cx="1094760" cy="2971800"/>
          </a:xfrm>
        </p:grpSpPr>
        <p:sp>
          <p:nvSpPr>
            <p:cNvPr id="657" name=""/>
            <p:cNvSpPr/>
            <p:nvPr/>
          </p:nvSpPr>
          <p:spPr>
            <a:xfrm>
              <a:off x="78678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78678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79437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80985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83250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83250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63" name=""/>
            <p:cNvCxnSpPr>
              <a:stCxn id="657" idx="2"/>
              <a:endCxn id="658" idx="2"/>
            </p:cNvCxnSpPr>
            <p:nvPr/>
          </p:nvCxnSpPr>
          <p:spPr>
            <a:xfrm flipH="1" flipV="1" rot="10800000">
              <a:off x="78483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64" name=""/>
          <p:cNvSpPr/>
          <p:nvPr/>
        </p:nvSpPr>
        <p:spPr>
          <a:xfrm>
            <a:off x="354960" y="3927600"/>
            <a:ext cx="8505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is always observed input, hence only one effective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 is a hidden binary 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 is a hidden scalar 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net is a struct, but should be a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k_bnet has many optional arguments, passed as string/value pai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. Specifying the paramet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6" name=""/>
          <p:cNvGrpSpPr/>
          <p:nvPr/>
        </p:nvGrpSpPr>
        <p:grpSpPr>
          <a:xfrm>
            <a:off x="7839720" y="1676520"/>
            <a:ext cx="1094760" cy="2971800"/>
            <a:chOff x="7839720" y="1676520"/>
            <a:chExt cx="1094760" cy="2971800"/>
          </a:xfrm>
        </p:grpSpPr>
        <p:sp>
          <p:nvSpPr>
            <p:cNvPr id="667" name=""/>
            <p:cNvSpPr/>
            <p:nvPr/>
          </p:nvSpPr>
          <p:spPr>
            <a:xfrm>
              <a:off x="80964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80964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81723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83271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85536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85536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3" name=""/>
            <p:cNvCxnSpPr>
              <a:stCxn id="667" idx="2"/>
              <a:endCxn id="668" idx="2"/>
            </p:cNvCxnSpPr>
            <p:nvPr/>
          </p:nvCxnSpPr>
          <p:spPr>
            <a:xfrm flipH="1" flipV="1" rot="10800000">
              <a:off x="80769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74" name=""/>
          <p:cNvSpPr/>
          <p:nvPr/>
        </p:nvSpPr>
        <p:spPr>
          <a:xfrm>
            <a:off x="437400" y="1971720"/>
            <a:ext cx="676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X} = root_CPD(bnet, 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Q} = softmax_CPD(bnet, Q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Y} = gaussian_CPD(bnet, 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513720" y="3774960"/>
            <a:ext cx="725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Ds are objects which support various methods such 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vert_from_CPD_to_potent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imize_params_given_expected_suff_sta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PD is created with random para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PD constructor has many optional argu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. Training the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380880" y="914400"/>
            <a:ext cx="6939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ad data –asci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cases = size(data, 1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ases = cell(3, ncas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served = [X Y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ases(observed, :) = num2cell(data’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295560" y="2895480"/>
            <a:ext cx="721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ining data is stored in cell arrays (slow!), to allow fo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able-sized nodes and missing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ses{i,t} = value of node i in case 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228600" y="426708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jtree_inf_engine(bnet, observed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371880" y="4800600"/>
            <a:ext cx="726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 inference engine could be used for this trivial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224280" y="5257800"/>
            <a:ext cx="731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2 = learn_params_em(engine, cas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82960" y="5680080"/>
            <a:ext cx="7221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use EM since the Q nodes are hidden during tra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_params_em is a function, but should be a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867800" y="380880"/>
            <a:ext cx="838080" cy="68580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7867800" y="2666880"/>
            <a:ext cx="838080" cy="68580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7943760" y="1600200"/>
            <a:ext cx="762120" cy="609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8098560" y="16765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8325000" y="22096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8325000" y="11430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9" name=""/>
          <p:cNvCxnSpPr>
            <a:stCxn id="683" idx="2"/>
            <a:endCxn id="684" idx="2"/>
          </p:cNvCxnSpPr>
          <p:nvPr/>
        </p:nvCxnSpPr>
        <p:spPr>
          <a:xfrm flipH="1" flipV="1" rot="10800000">
            <a:off x="7848360" y="723600"/>
            <a:ext cx="2160" cy="2286720"/>
          </a:xfrm>
          <a:prstGeom prst="bentConnector3">
            <a:avLst>
              <a:gd name="adj1" fmla="val -1320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fore trai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1" name="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0866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fter trai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3" name="" descr=""/>
          <p:cNvPicPr/>
          <p:nvPr/>
        </p:nvPicPr>
        <p:blipFill>
          <a:blip r:embed="rId1"/>
          <a:stretch/>
        </p:blipFill>
        <p:spPr>
          <a:xfrm>
            <a:off x="914400" y="990720"/>
            <a:ext cx="7010280" cy="56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. Inference/ predi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380880" y="1219320"/>
            <a:ext cx="82296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jtree_inf_engine(bnet2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vidence = cell(1,3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vidence{X} = 0.68; % Q and Y are hid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enter_evidence(engine, evidenc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 = marginal_nodes(engine, 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.mu % E[Y|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.Sigma % Cov[Y|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6" name=""/>
          <p:cNvGrpSpPr/>
          <p:nvPr/>
        </p:nvGrpSpPr>
        <p:grpSpPr>
          <a:xfrm>
            <a:off x="7687080" y="3657600"/>
            <a:ext cx="1094760" cy="2971800"/>
            <a:chOff x="7687080" y="3657600"/>
            <a:chExt cx="1094760" cy="2971800"/>
          </a:xfrm>
        </p:grpSpPr>
        <p:sp>
          <p:nvSpPr>
            <p:cNvPr id="697" name=""/>
            <p:cNvSpPr/>
            <p:nvPr/>
          </p:nvSpPr>
          <p:spPr>
            <a:xfrm>
              <a:off x="7943760" y="365760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7943760" y="594360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8019720" y="487692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8174520" y="49528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8400960" y="548640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8400960" y="44197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697" idx="2"/>
              <a:endCxn id="698" idx="2"/>
            </p:cNvCxnSpPr>
            <p:nvPr/>
          </p:nvCxnSpPr>
          <p:spPr>
            <a:xfrm flipH="1" flipV="1" rot="10800000">
              <a:off x="7924320" y="400032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kinds of CPDs that BNT suppor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5" name=""/>
          <p:cNvGraphicFramePr/>
          <p:nvPr/>
        </p:nvGraphicFramePr>
        <p:xfrm>
          <a:off x="380880" y="1523880"/>
          <a:ext cx="8229600" cy="458928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597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ren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tribu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2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cre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cre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bular, noisy-or, decision tre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1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inuo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cre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ditional Gauss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cre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inuo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ftma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inuo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inuo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near Gaussian, ML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ther kinds of models that BNT suppor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83808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lassification/ regress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linear regression, logistic regression, cluster weighted regression,  hierarchical mixtures of experts, naïve Bay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Dimensionality reduc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probabilistic PCA, factor analysis, probabilistic 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Density estim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mixtures of Gaussi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tate-space 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LDS, switching LDS, tree-structured AR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HMM varian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input-output HMM, factorial HMM, coupled HMM, DB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robabilistic expert system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QMR, Alarm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Limited-memory influence diagram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LIMI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Undirected graphical 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MRF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look under the hoo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EM is implemen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junction tree inference is implemen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abilistic graphical mode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1744560"/>
            <a:ext cx="7924680" cy="4046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950360" y="1127160"/>
            <a:ext cx="351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abilistic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43400" y="2568600"/>
            <a:ext cx="3962520" cy="2879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637000"/>
            <a:ext cx="4191120" cy="2879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133720" y="277344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rec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409360" y="2773440"/>
            <a:ext cx="199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irec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990720"/>
            <a:ext cx="8153640" cy="480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41040" y="1951200"/>
            <a:ext cx="306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aphical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370880" y="3578400"/>
            <a:ext cx="22305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ixture of Gaussia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CA/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aïve Bayes classifi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M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te-space mod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105520" y="3600360"/>
            <a:ext cx="2266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rkov Random Fie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oltzmann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ing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x-ent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g-linear mod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521000" y="3184560"/>
            <a:ext cx="28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Bayesian belief ne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638680" y="3184560"/>
            <a:ext cx="19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Markov ne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EM is implement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1" name="" descr=""/>
          <p:cNvPicPr/>
          <p:nvPr/>
        </p:nvPicPr>
        <p:blipFill>
          <a:blip r:embed="rId1"/>
          <a:stretch/>
        </p:blipFill>
        <p:spPr>
          <a:xfrm>
            <a:off x="0" y="1219320"/>
            <a:ext cx="9144000" cy="5065560"/>
          </a:xfrm>
          <a:prstGeom prst="rect">
            <a:avLst/>
          </a:prstGeom>
          <a:ln w="0">
            <a:noFill/>
          </a:ln>
        </p:spPr>
      </p:pic>
      <p:sp>
        <p:nvSpPr>
          <p:cNvPr id="712" name=""/>
          <p:cNvSpPr/>
          <p:nvPr/>
        </p:nvSpPr>
        <p:spPr>
          <a:xfrm>
            <a:off x="1704960" y="4648320"/>
            <a:ext cx="721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ach CPD class extracts its own expected sufficient sta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 flipV="1">
            <a:off x="2590920" y="4266720"/>
            <a:ext cx="76176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909360" y="6035760"/>
            <a:ext cx="785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ach CPD class knows how to compute ML param. estimates, </a:t>
            </a:r>
            <a:br>
              <a:rPr sz="2400"/>
            </a:b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.g., softmax uses I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 flipV="1">
            <a:off x="2133720" y="5638680"/>
            <a:ext cx="99036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5050800" y="1447920"/>
            <a:ext cx="1737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(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, 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| e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 flipH="1">
            <a:off x="1523520" y="1905120"/>
            <a:ext cx="3886200" cy="17524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junction tree inference is implement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 the jtree from the grap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itialize the clique potentials with evid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un belief propagation on the jtr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. Creating a junction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1" name="" descr=""/>
          <p:cNvPicPr/>
          <p:nvPr/>
        </p:nvPicPr>
        <p:blipFill>
          <a:blip r:embed="rId1"/>
          <a:stretch/>
        </p:blipFill>
        <p:spPr>
          <a:xfrm>
            <a:off x="1295280" y="1066680"/>
            <a:ext cx="6334200" cy="5448600"/>
          </a:xfrm>
          <a:prstGeom prst="rect">
            <a:avLst/>
          </a:prstGeom>
          <a:ln w="0">
            <a:noFill/>
          </a:ln>
        </p:spPr>
      </p:pic>
      <p:sp>
        <p:nvSpPr>
          <p:cNvPr id="722" name=""/>
          <p:cNvSpPr/>
          <p:nvPr/>
        </p:nvSpPr>
        <p:spPr>
          <a:xfrm>
            <a:off x="4876920" y="3733920"/>
            <a:ext cx="3047760" cy="2514600"/>
          </a:xfrm>
          <a:prstGeom prst="rect">
            <a:avLst/>
          </a:prstGeom>
          <a:noFill/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1676520" y="3733920"/>
            <a:ext cx="3047760" cy="251460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287640" y="1184400"/>
            <a:ext cx="387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s my graph theory toolbo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170040" y="2819520"/>
            <a:ext cx="277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P-hard to optimiz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 flipH="1" flipV="1">
            <a:off x="5791320" y="2819160"/>
            <a:ext cx="45720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. Initializing the clique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8" name="" descr=""/>
          <p:cNvPicPr/>
          <p:nvPr/>
        </p:nvPicPr>
        <p:blipFill>
          <a:blip r:embed="rId1"/>
          <a:stretch/>
        </p:blipFill>
        <p:spPr>
          <a:xfrm>
            <a:off x="533520" y="1373040"/>
            <a:ext cx="8534160" cy="510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. Belief propagation (centralized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0" name="" descr=""/>
          <p:cNvPicPr/>
          <p:nvPr/>
        </p:nvPicPr>
        <p:blipFill>
          <a:blip r:embed="rId1"/>
          <a:stretch/>
        </p:blipFill>
        <p:spPr>
          <a:xfrm>
            <a:off x="838080" y="1066680"/>
            <a:ext cx="7391520" cy="4552920"/>
          </a:xfrm>
          <a:prstGeom prst="rect">
            <a:avLst/>
          </a:prstGeom>
          <a:ln w="0">
            <a:noFill/>
          </a:ln>
        </p:spPr>
      </p:pic>
      <p:pic>
        <p:nvPicPr>
          <p:cNvPr id="731" name="" descr=""/>
          <p:cNvPicPr/>
          <p:nvPr/>
        </p:nvPicPr>
        <p:blipFill>
          <a:blip r:embed="rId2"/>
          <a:stretch/>
        </p:blipFill>
        <p:spPr>
          <a:xfrm>
            <a:off x="5410080" y="2666880"/>
            <a:ext cx="3098880" cy="1168560"/>
          </a:xfrm>
          <a:prstGeom prst="rect">
            <a:avLst/>
          </a:prstGeom>
          <a:ln w="0">
            <a:noFill/>
          </a:ln>
        </p:spPr>
      </p:pic>
      <p:sp>
        <p:nvSpPr>
          <p:cNvPr id="732" name=""/>
          <p:cNvSpPr/>
          <p:nvPr/>
        </p:nvSpPr>
        <p:spPr>
          <a:xfrm flipH="1">
            <a:off x="2666880" y="3276720"/>
            <a:ext cx="289584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 flipH="1" flipV="1">
            <a:off x="2362320" y="5105520"/>
            <a:ext cx="2590560" cy="838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4" name="" descr=""/>
          <p:cNvPicPr/>
          <p:nvPr/>
        </p:nvPicPr>
        <p:blipFill>
          <a:blip r:embed="rId3"/>
          <a:stretch/>
        </p:blipFill>
        <p:spPr>
          <a:xfrm>
            <a:off x="5257800" y="5257800"/>
            <a:ext cx="3505320" cy="13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ipulating discrete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6" name="" descr=""/>
          <p:cNvPicPr/>
          <p:nvPr/>
        </p:nvPicPr>
        <p:blipFill>
          <a:blip r:embed="rId1"/>
          <a:stretch/>
        </p:blipFill>
        <p:spPr>
          <a:xfrm>
            <a:off x="228600" y="3657600"/>
            <a:ext cx="8381880" cy="533520"/>
          </a:xfrm>
          <a:prstGeom prst="rect">
            <a:avLst/>
          </a:prstGeom>
          <a:ln w="0">
            <a:noFill/>
          </a:ln>
        </p:spPr>
      </p:pic>
      <p:pic>
        <p:nvPicPr>
          <p:cNvPr id="737" name="" descr=""/>
          <p:cNvPicPr/>
          <p:nvPr/>
        </p:nvPicPr>
        <p:blipFill>
          <a:blip r:embed="rId2"/>
          <a:stretch/>
        </p:blipFill>
        <p:spPr>
          <a:xfrm>
            <a:off x="228600" y="1752480"/>
            <a:ext cx="8280360" cy="1041480"/>
          </a:xfrm>
          <a:prstGeom prst="rect">
            <a:avLst/>
          </a:prstGeom>
          <a:ln w="0">
            <a:noFill/>
          </a:ln>
        </p:spPr>
      </p:pic>
      <p:sp>
        <p:nvSpPr>
          <p:cNvPr id="738" name=""/>
          <p:cNvSpPr/>
          <p:nvPr/>
        </p:nvSpPr>
        <p:spPr>
          <a:xfrm>
            <a:off x="209880" y="955800"/>
            <a:ext cx="21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gin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09520" y="2936880"/>
            <a:ext cx="193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213120" y="4384800"/>
            <a:ext cx="123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v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1" name="" descr=""/>
          <p:cNvPicPr/>
          <p:nvPr/>
        </p:nvPicPr>
        <p:blipFill>
          <a:blip r:embed="rId3"/>
          <a:stretch/>
        </p:blipFill>
        <p:spPr>
          <a:xfrm>
            <a:off x="473040" y="5060880"/>
            <a:ext cx="8047080" cy="46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ipulating Gaussian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osed-form formulae for marginalization, multiplication and “division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use moment 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or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onical 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fo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(1)/O(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complexity per op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xtures of Gaussian potentials are not closed under marginalization, so need approximations (moment match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mi-rin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redefining * and +, same code implements Kalman filter and forwards algorith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replacing + with max, can convert from forwards (sum-product) to Viterbi algorithm (max-product)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P works on any commutative semi-ring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kinds of inference algo’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60948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opy belief propag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es not require constructing a j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 passing slightly simp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iterate; may not conver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. successful in practice, e.g., turbocodes/ LDP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uctured variational metho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use jtree/BP as subrout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s more math; less turn-k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bbs samp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llel, distributed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operations require random number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iterate; may take long time to conver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 of B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many different kinds of models/ CPDs – lego brick philosop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many inference algorithms, with different speed/ accuracy/ generality tradeoffs (to be chosen by us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several learning algorithms (parameters and structur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urce code is easy to read and exte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y example of a Bayes 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533520" y="990720"/>
            <a:ext cx="3124080" cy="2895480"/>
            <a:chOff x="533520" y="990720"/>
            <a:chExt cx="3124080" cy="2895480"/>
          </a:xfrm>
        </p:grpSpPr>
        <p:sp>
          <p:nvSpPr>
            <p:cNvPr id="65" name=""/>
            <p:cNvSpPr/>
            <p:nvPr/>
          </p:nvSpPr>
          <p:spPr>
            <a:xfrm>
              <a:off x="1524240" y="990720"/>
              <a:ext cx="1066680" cy="838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814760" y="11844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3520" y="2057400"/>
              <a:ext cx="1066680" cy="8384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24400" y="22510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590920" y="2133720"/>
              <a:ext cx="1066680" cy="838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881800" y="23274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600200" y="3048120"/>
              <a:ext cx="1067040" cy="838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90720" y="3241800"/>
              <a:ext cx="46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447920" y="281952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>
              <a:off x="1371240" y="1752840"/>
              <a:ext cx="38124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438640" y="1676520"/>
              <a:ext cx="4572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>
              <a:off x="2590560" y="297180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33520" y="4267080"/>
            <a:ext cx="7696080" cy="210816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4365360" y="1295280"/>
            <a:ext cx="22687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cc99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&lt;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318560" y="1866960"/>
            <a:ext cx="2203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R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S, 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559680" y="3317760"/>
            <a:ext cx="472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Times New Roman"/>
              </a:rPr>
              <a:t>Conditional Probability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4647960" y="3809880"/>
            <a:ext cx="152280" cy="114300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791320" y="3886200"/>
            <a:ext cx="914400" cy="9907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40040" y="879480"/>
            <a:ext cx="83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556880" y="650880"/>
            <a:ext cx="140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nces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477480" y="609480"/>
            <a:ext cx="10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ar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638680" y="1066680"/>
            <a:ext cx="76320" cy="4572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476760" y="990720"/>
            <a:ext cx="533160" cy="533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582720" y="1828800"/>
            <a:ext cx="69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.g.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other interesting GM proje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-360" y="121932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N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Probabilistic Networks Library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-source C++, based on BNT, work in progress (due 12/0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GMT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Graphical Models toolkit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mes, Zweig/ U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 source C++, designed for ASR (HTK),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binary avail n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AutoBay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code generato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ischer, Buntine/NASA Am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log generates matlab/C,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ot avail. to publ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IB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variational inference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n / Bishop, U. Cambridg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jugate exponential models, work in prog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BUG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piegelhalter et al., MRC U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bbs sampling for Bayesian DAGs,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binary avail. since ’9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g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Graphical Models in R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uritzen et al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 in prog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 find out more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1219320" y="2844720"/>
            <a:ext cx="665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www.ai.mit.edu/~murphyk/Bayes/bayes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432360" y="1793880"/>
            <a:ext cx="84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#3 Google rated site on GMs (after the journal “Graphical Models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609480" y="1085760"/>
            <a:ext cx="8153640" cy="51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main: Monitoring Intensive-Care Pati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7 vari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09 parame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…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tead of 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5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3027240" y="2016000"/>
            <a:ext cx="5900760" cy="4632480"/>
            <a:chOff x="3027240" y="2016000"/>
            <a:chExt cx="5900760" cy="4632480"/>
          </a:xfrm>
        </p:grpSpPr>
        <p:sp>
          <p:nvSpPr>
            <p:cNvPr id="91" name=""/>
            <p:cNvSpPr/>
            <p:nvPr/>
          </p:nvSpPr>
          <p:spPr>
            <a:xfrm>
              <a:off x="3738240" y="589572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CW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338360" y="5891040"/>
              <a:ext cx="4334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063840" y="610524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B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862680" y="5900760"/>
              <a:ext cx="4330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EK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472160" y="5905440"/>
              <a:ext cx="4334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SA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389720" y="5410080"/>
              <a:ext cx="6778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RRCAUT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848280" y="541476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103720" y="5429160"/>
              <a:ext cx="609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ISTOR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362200" y="492444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ATECH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652640" y="4438440"/>
              <a:ext cx="5050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A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405480" y="4419360"/>
              <a:ext cx="6094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XPC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948280" y="3962160"/>
              <a:ext cx="6094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RTC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943240" y="346716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ALV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862240" y="297180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LU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764120" y="301788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ITUB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070480" y="2531880"/>
              <a:ext cx="857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ISCONNEC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265880" y="2016000"/>
              <a:ext cx="780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INVOLSE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303680" y="2531880"/>
              <a:ext cx="641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MAC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64000" y="2482560"/>
              <a:ext cx="7952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KINKEDTUB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81240" y="2495520"/>
              <a:ext cx="7952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NTUB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882960" y="2495520"/>
              <a:ext cx="8967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ULMEMBOLU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890880" y="297180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A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424040" y="2971800"/>
              <a:ext cx="533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HU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428640" y="395280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NAPHYLAXI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05280" y="3457440"/>
              <a:ext cx="5331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INOV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352840" y="3948120"/>
              <a:ext cx="533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VSA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405040" y="345744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FI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021440" y="330840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RES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267160" y="4448160"/>
              <a:ext cx="8967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NSUFFANEST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585960" y="444816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P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176360" y="492444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VFAILUR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763960" y="5422680"/>
              <a:ext cx="10396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RRBLOWOUTPU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127400" y="5410080"/>
              <a:ext cx="906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TROEVOLUM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087360" y="5410080"/>
              <a:ext cx="906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VEDVOLUM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195440" y="2773080"/>
              <a:ext cx="74520" cy="204840"/>
            </a:xfrm>
            <a:custGeom>
              <a:avLst/>
              <a:gdLst/>
              <a:ahLst/>
              <a:rect l="l" t="t" r="r" b="b"/>
              <a:pathLst>
                <a:path w="48" h="144">
                  <a:moveTo>
                    <a:pt x="48" y="0"/>
                  </a:moveTo>
                  <a:cubicBezTo>
                    <a:pt x="48" y="0"/>
                    <a:pt x="24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803480" y="2757240"/>
              <a:ext cx="297000" cy="228600"/>
            </a:xfrm>
            <a:custGeom>
              <a:avLst/>
              <a:gdLst/>
              <a:ahLst/>
              <a:rect l="l" t="t" r="r" b="b"/>
              <a:pathLst>
                <a:path w="192" h="144">
                  <a:moveTo>
                    <a:pt x="192" y="0"/>
                  </a:moveTo>
                  <a:cubicBezTo>
                    <a:pt x="192" y="0"/>
                    <a:pt x="96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640280" y="2293920"/>
              <a:ext cx="76320" cy="237960"/>
            </a:xfrm>
            <a:custGeom>
              <a:avLst/>
              <a:gdLst/>
              <a:ahLst/>
              <a:rect l="l" t="t" r="r" b="b"/>
              <a:pathLst>
                <a:path w="1" h="192">
                  <a:moveTo>
                    <a:pt x="0" y="0"/>
                  </a:moveTo>
                  <a:cubicBezTo>
                    <a:pt x="0" y="0"/>
                    <a:pt x="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8173800" y="2803320"/>
              <a:ext cx="228600" cy="228600"/>
            </a:xfrm>
            <a:custGeom>
              <a:avLst/>
              <a:gdLst/>
              <a:ahLst/>
              <a:rect l="l" t="t" r="r" b="b"/>
              <a:pathLst>
                <a:path w="144" h="144">
                  <a:moveTo>
                    <a:pt x="144" y="0"/>
                  </a:moveTo>
                  <a:cubicBezTo>
                    <a:pt x="144" y="0"/>
                    <a:pt x="72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778520" y="2793960"/>
              <a:ext cx="166680" cy="23796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0" y="0"/>
                  </a:moveTo>
                  <a:cubicBezTo>
                    <a:pt x="0" y="0"/>
                    <a:pt x="48" y="72"/>
                    <a:pt x="9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426080" y="3217680"/>
              <a:ext cx="361800" cy="163440"/>
            </a:xfrm>
            <a:custGeom>
              <a:avLst/>
              <a:gdLst/>
              <a:ahLst/>
              <a:rect l="l" t="t" r="r" b="b"/>
              <a:pathLst>
                <a:path w="228" h="103">
                  <a:moveTo>
                    <a:pt x="228" y="0"/>
                  </a:moveTo>
                  <a:cubicBezTo>
                    <a:pt x="190" y="17"/>
                    <a:pt x="47" y="82"/>
                    <a:pt x="0" y="103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818040" y="2774880"/>
              <a:ext cx="380880" cy="527040"/>
            </a:xfrm>
            <a:custGeom>
              <a:avLst/>
              <a:gdLst/>
              <a:ahLst/>
              <a:rect l="l" t="t" r="r" b="b"/>
              <a:pathLst>
                <a:path w="240" h="332">
                  <a:moveTo>
                    <a:pt x="0" y="0"/>
                  </a:moveTo>
                  <a:cubicBezTo>
                    <a:pt x="41" y="55"/>
                    <a:pt x="190" y="263"/>
                    <a:pt x="240" y="33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208560" y="2768400"/>
              <a:ext cx="317520" cy="196920"/>
            </a:xfrm>
            <a:custGeom>
              <a:avLst/>
              <a:gdLst/>
              <a:ahLst/>
              <a:rect l="l" t="t" r="r" b="b"/>
              <a:pathLst>
                <a:path w="200" h="124">
                  <a:moveTo>
                    <a:pt x="200" y="0"/>
                  </a:moveTo>
                  <a:cubicBezTo>
                    <a:pt x="167" y="21"/>
                    <a:pt x="42" y="98"/>
                    <a:pt x="0" y="12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533920" y="2738160"/>
              <a:ext cx="414360" cy="28116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0" y="0"/>
                  </a:moveTo>
                  <a:cubicBezTo>
                    <a:pt x="0" y="0"/>
                    <a:pt x="144" y="96"/>
                    <a:pt x="288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100480" y="2781360"/>
              <a:ext cx="142920" cy="671400"/>
            </a:xfrm>
            <a:custGeom>
              <a:avLst/>
              <a:gdLst/>
              <a:ahLst/>
              <a:rect l="l" t="t" r="r" b="b"/>
              <a:pathLst>
                <a:path w="96" h="432">
                  <a:moveTo>
                    <a:pt x="96" y="0"/>
                  </a:moveTo>
                  <a:cubicBezTo>
                    <a:pt x="96" y="0"/>
                    <a:pt x="48" y="216"/>
                    <a:pt x="0" y="43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5566320" y="3733560"/>
              <a:ext cx="74520" cy="2095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362200" y="2771640"/>
              <a:ext cx="662040" cy="733320"/>
            </a:xfrm>
            <a:custGeom>
              <a:avLst/>
              <a:gdLst/>
              <a:ahLst/>
              <a:rect l="l" t="t" r="r" b="b"/>
              <a:pathLst>
                <a:path w="432" h="480">
                  <a:moveTo>
                    <a:pt x="0" y="0"/>
                  </a:moveTo>
                  <a:cubicBezTo>
                    <a:pt x="60" y="80"/>
                    <a:pt x="120" y="160"/>
                    <a:pt x="192" y="240"/>
                  </a:cubicBezTo>
                  <a:cubicBezTo>
                    <a:pt x="264" y="320"/>
                    <a:pt x="348" y="400"/>
                    <a:pt x="432" y="48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3200400"/>
              <a:ext cx="685800" cy="304560"/>
            </a:xfrm>
            <a:custGeom>
              <a:avLst/>
              <a:gdLst/>
              <a:ahLst/>
              <a:rect l="l" t="t" r="r" b="b"/>
              <a:pathLst>
                <a:path w="432" h="192">
                  <a:moveTo>
                    <a:pt x="432" y="0"/>
                  </a:moveTo>
                  <a:cubicBezTo>
                    <a:pt x="432" y="0"/>
                    <a:pt x="216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457680" y="3166920"/>
              <a:ext cx="252360" cy="1252440"/>
            </a:xfrm>
            <a:custGeom>
              <a:avLst/>
              <a:gdLst/>
              <a:ahLst/>
              <a:rect l="l" t="t" r="r" b="b"/>
              <a:pathLst>
                <a:path w="159" h="789">
                  <a:moveTo>
                    <a:pt x="0" y="0"/>
                  </a:moveTo>
                  <a:cubicBezTo>
                    <a:pt x="19" y="27"/>
                    <a:pt x="85" y="34"/>
                    <a:pt x="111" y="165"/>
                  </a:cubicBezTo>
                  <a:cubicBezTo>
                    <a:pt x="137" y="296"/>
                    <a:pt x="155" y="541"/>
                    <a:pt x="159" y="789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251400" y="3747960"/>
              <a:ext cx="74520" cy="21420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719680" y="3709800"/>
              <a:ext cx="304560" cy="252360"/>
            </a:xfrm>
            <a:custGeom>
              <a:avLst/>
              <a:gdLst/>
              <a:ahLst/>
              <a:rect l="l" t="t" r="r" b="b"/>
              <a:pathLst>
                <a:path w="240" h="144">
                  <a:moveTo>
                    <a:pt x="240" y="0"/>
                  </a:moveTo>
                  <a:cubicBezTo>
                    <a:pt x="240" y="0"/>
                    <a:pt x="12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067000" y="4186080"/>
              <a:ext cx="371520" cy="27612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288" y="0"/>
                  </a:moveTo>
                  <a:cubicBezTo>
                    <a:pt x="288" y="0"/>
                    <a:pt x="144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705200" y="3276360"/>
              <a:ext cx="168120" cy="1175040"/>
            </a:xfrm>
            <a:custGeom>
              <a:avLst/>
              <a:gdLst/>
              <a:ahLst/>
              <a:rect l="l" t="t" r="r" b="b"/>
              <a:pathLst>
                <a:path w="106" h="740">
                  <a:moveTo>
                    <a:pt x="15" y="0"/>
                  </a:moveTo>
                  <a:cubicBezTo>
                    <a:pt x="7" y="84"/>
                    <a:pt x="0" y="165"/>
                    <a:pt x="15" y="288"/>
                  </a:cubicBezTo>
                  <a:cubicBezTo>
                    <a:pt x="30" y="411"/>
                    <a:pt x="87" y="646"/>
                    <a:pt x="106" y="74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871960" y="4243320"/>
              <a:ext cx="376200" cy="709560"/>
            </a:xfrm>
            <a:custGeom>
              <a:avLst/>
              <a:gdLst/>
              <a:ahLst/>
              <a:rect l="l" t="t" r="r" b="b"/>
              <a:pathLst>
                <a:path w="240" h="480">
                  <a:moveTo>
                    <a:pt x="240" y="0"/>
                  </a:moveTo>
                  <a:cubicBezTo>
                    <a:pt x="236" y="104"/>
                    <a:pt x="232" y="208"/>
                    <a:pt x="192" y="288"/>
                  </a:cubicBezTo>
                  <a:cubicBezTo>
                    <a:pt x="152" y="368"/>
                    <a:pt x="76" y="424"/>
                    <a:pt x="0" y="48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643360" y="4724280"/>
              <a:ext cx="74520" cy="20484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60"/>
                    <a:pt x="0" y="120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024080" y="4638600"/>
              <a:ext cx="1357200" cy="376200"/>
            </a:xfrm>
            <a:custGeom>
              <a:avLst/>
              <a:gdLst/>
              <a:ahLst/>
              <a:rect l="l" t="t" r="r" b="b"/>
              <a:pathLst>
                <a:path w="855" h="237">
                  <a:moveTo>
                    <a:pt x="0" y="0"/>
                  </a:moveTo>
                  <a:cubicBezTo>
                    <a:pt x="142" y="39"/>
                    <a:pt x="677" y="188"/>
                    <a:pt x="855" y="237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027240" y="4633920"/>
              <a:ext cx="596880" cy="1814400"/>
            </a:xfrm>
            <a:custGeom>
              <a:avLst/>
              <a:gdLst/>
              <a:ahLst/>
              <a:rect l="l" t="t" r="r" b="b"/>
              <a:pathLst>
                <a:path w="376" h="1143">
                  <a:moveTo>
                    <a:pt x="358" y="0"/>
                  </a:moveTo>
                  <a:cubicBezTo>
                    <a:pt x="316" y="25"/>
                    <a:pt x="162" y="102"/>
                    <a:pt x="105" y="151"/>
                  </a:cubicBezTo>
                  <a:cubicBezTo>
                    <a:pt x="48" y="200"/>
                    <a:pt x="30" y="230"/>
                    <a:pt x="15" y="293"/>
                  </a:cubicBezTo>
                  <a:cubicBezTo>
                    <a:pt x="0" y="356"/>
                    <a:pt x="8" y="434"/>
                    <a:pt x="15" y="529"/>
                  </a:cubicBezTo>
                  <a:cubicBezTo>
                    <a:pt x="23" y="623"/>
                    <a:pt x="45" y="789"/>
                    <a:pt x="60" y="860"/>
                  </a:cubicBezTo>
                  <a:cubicBezTo>
                    <a:pt x="75" y="930"/>
                    <a:pt x="53" y="907"/>
                    <a:pt x="105" y="954"/>
                  </a:cubicBezTo>
                  <a:cubicBezTo>
                    <a:pt x="158" y="1001"/>
                    <a:pt x="267" y="1072"/>
                    <a:pt x="376" y="1143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823920" y="5181480"/>
              <a:ext cx="524160" cy="262080"/>
            </a:xfrm>
            <a:custGeom>
              <a:avLst/>
              <a:gdLst/>
              <a:ahLst/>
              <a:rect l="l" t="t" r="r" b="b"/>
              <a:pathLst>
                <a:path w="336" h="144">
                  <a:moveTo>
                    <a:pt x="336" y="0"/>
                  </a:moveTo>
                  <a:cubicBezTo>
                    <a:pt x="336" y="0"/>
                    <a:pt x="168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943160" y="5119560"/>
              <a:ext cx="420840" cy="316080"/>
            </a:xfrm>
            <a:custGeom>
              <a:avLst/>
              <a:gdLst/>
              <a:ahLst/>
              <a:rect l="l" t="t" r="r" b="b"/>
              <a:pathLst>
                <a:path w="265" h="199">
                  <a:moveTo>
                    <a:pt x="0" y="0"/>
                  </a:moveTo>
                  <a:cubicBezTo>
                    <a:pt x="44" y="33"/>
                    <a:pt x="210" y="158"/>
                    <a:pt x="265" y="199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681000" y="5682960"/>
              <a:ext cx="171720" cy="228600"/>
            </a:xfrm>
            <a:custGeom>
              <a:avLst/>
              <a:gdLst/>
              <a:ahLst/>
              <a:rect l="l" t="t" r="r" b="b"/>
              <a:pathLst>
                <a:path w="108" h="144">
                  <a:moveTo>
                    <a:pt x="0" y="0"/>
                  </a:moveTo>
                  <a:cubicBezTo>
                    <a:pt x="17" y="24"/>
                    <a:pt x="86" y="114"/>
                    <a:pt x="108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433680" y="5691240"/>
              <a:ext cx="74520" cy="199800"/>
            </a:xfrm>
            <a:custGeom>
              <a:avLst/>
              <a:gdLst/>
              <a:ahLst/>
              <a:rect l="l" t="t" r="r" b="b"/>
              <a:pathLst>
                <a:path w="48" h="144">
                  <a:moveTo>
                    <a:pt x="48" y="0"/>
                  </a:moveTo>
                  <a:cubicBezTo>
                    <a:pt x="48" y="0"/>
                    <a:pt x="24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814560" y="5181480"/>
              <a:ext cx="504720" cy="252360"/>
            </a:xfrm>
            <a:custGeom>
              <a:avLst/>
              <a:gdLst/>
              <a:ahLst/>
              <a:rect l="l" t="t" r="r" b="b"/>
              <a:pathLst>
                <a:path w="336" h="144">
                  <a:moveTo>
                    <a:pt x="0" y="0"/>
                  </a:moveTo>
                  <a:cubicBezTo>
                    <a:pt x="0" y="0"/>
                    <a:pt x="168" y="72"/>
                    <a:pt x="33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>
              <a:off x="4499640" y="5691240"/>
              <a:ext cx="74520" cy="199800"/>
            </a:xfrm>
            <a:custGeom>
              <a:avLst/>
              <a:gdLst/>
              <a:ahLst/>
              <a:rect l="l" t="t" r="r" b="b"/>
              <a:pathLst>
                <a:path w="1" h="192">
                  <a:moveTo>
                    <a:pt x="0" y="0"/>
                  </a:moveTo>
                  <a:cubicBezTo>
                    <a:pt x="0" y="0"/>
                    <a:pt x="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576680" y="5200560"/>
              <a:ext cx="74520" cy="2095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429240" y="4214520"/>
              <a:ext cx="133200" cy="21456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0" y="0"/>
                  </a:moveTo>
                  <a:cubicBezTo>
                    <a:pt x="0" y="0"/>
                    <a:pt x="48" y="72"/>
                    <a:pt x="9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905080" y="5148000"/>
              <a:ext cx="1028880" cy="295560"/>
            </a:xfrm>
            <a:custGeom>
              <a:avLst/>
              <a:gdLst/>
              <a:ahLst/>
              <a:rect l="l" t="t" r="r" b="b"/>
              <a:pathLst>
                <a:path w="621" h="213">
                  <a:moveTo>
                    <a:pt x="0" y="0"/>
                  </a:moveTo>
                  <a:cubicBezTo>
                    <a:pt x="104" y="36"/>
                    <a:pt x="518" y="178"/>
                    <a:pt x="621" y="213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05400" y="5657760"/>
              <a:ext cx="357120" cy="27144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0" y="0"/>
                  </a:moveTo>
                  <a:cubicBezTo>
                    <a:pt x="0" y="0"/>
                    <a:pt x="144" y="96"/>
                    <a:pt x="288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724520" y="5686200"/>
              <a:ext cx="1440" cy="22860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224480" y="5667120"/>
              <a:ext cx="309600" cy="266760"/>
            </a:xfrm>
            <a:custGeom>
              <a:avLst/>
              <a:gdLst/>
              <a:ahLst/>
              <a:rect l="l" t="t" r="r" b="b"/>
              <a:pathLst>
                <a:path w="240" h="192">
                  <a:moveTo>
                    <a:pt x="240" y="0"/>
                  </a:moveTo>
                  <a:cubicBezTo>
                    <a:pt x="240" y="0"/>
                    <a:pt x="12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456240" y="5676840"/>
              <a:ext cx="495360" cy="469800"/>
            </a:xfrm>
            <a:custGeom>
              <a:avLst/>
              <a:gdLst/>
              <a:ahLst/>
              <a:rect l="l" t="t" r="r" b="b"/>
              <a:pathLst>
                <a:path w="312" h="296">
                  <a:moveTo>
                    <a:pt x="312" y="0"/>
                  </a:moveTo>
                  <a:cubicBezTo>
                    <a:pt x="260" y="49"/>
                    <a:pt x="65" y="234"/>
                    <a:pt x="0" y="296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966840" y="6119640"/>
              <a:ext cx="424080" cy="28116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288" y="0"/>
                  </a:moveTo>
                  <a:cubicBezTo>
                    <a:pt x="288" y="0"/>
                    <a:pt x="144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776480" y="5610240"/>
              <a:ext cx="2100240" cy="409320"/>
            </a:xfrm>
            <a:custGeom>
              <a:avLst/>
              <a:gdLst/>
              <a:ahLst/>
              <a:rect l="l" t="t" r="r" b="b"/>
              <a:pathLst>
                <a:path w="1323" h="258">
                  <a:moveTo>
                    <a:pt x="1323" y="0"/>
                  </a:moveTo>
                  <a:cubicBezTo>
                    <a:pt x="1279" y="22"/>
                    <a:pt x="1209" y="110"/>
                    <a:pt x="1058" y="134"/>
                  </a:cubicBezTo>
                  <a:cubicBezTo>
                    <a:pt x="907" y="158"/>
                    <a:pt x="594" y="125"/>
                    <a:pt x="418" y="146"/>
                  </a:cubicBezTo>
                  <a:cubicBezTo>
                    <a:pt x="242" y="167"/>
                    <a:pt x="87" y="235"/>
                    <a:pt x="0" y="258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067160" y="5695920"/>
              <a:ext cx="74880" cy="1951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223800" y="492444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YPOVOLEMI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205080" y="5895720"/>
              <a:ext cx="45720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V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576240" y="5209920"/>
              <a:ext cx="84240" cy="20016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605040" y="637200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B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284520" y="5715000"/>
              <a:ext cx="1800" cy="393480"/>
            </a:xfrm>
            <a:custGeom>
              <a:avLst/>
              <a:gdLst/>
              <a:ahLst/>
              <a:rect l="l" t="t" r="r" b="b"/>
              <a:pathLst>
                <a:path w="1" h="248">
                  <a:moveTo>
                    <a:pt x="0" y="0"/>
                  </a:moveTo>
                  <a:cubicBezTo>
                    <a:pt x="0" y="41"/>
                    <a:pt x="0" y="196"/>
                    <a:pt x="0" y="248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809880" y="4233600"/>
              <a:ext cx="1440" cy="214560"/>
            </a:xfrm>
            <a:custGeom>
              <a:avLst/>
              <a:gdLst/>
              <a:ahLst/>
              <a:rect l="l" t="t" r="r" b="b"/>
              <a:pathLst>
                <a:path w="1" h="135">
                  <a:moveTo>
                    <a:pt x="0" y="0"/>
                  </a:moveTo>
                  <a:cubicBezTo>
                    <a:pt x="0" y="22"/>
                    <a:pt x="0" y="107"/>
                    <a:pt x="0" y="135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700600" y="2660400"/>
              <a:ext cx="1371600" cy="704880"/>
            </a:xfrm>
            <a:custGeom>
              <a:avLst/>
              <a:gdLst/>
              <a:ahLst/>
              <a:rect l="l" t="t" r="r" b="b"/>
              <a:pathLst>
                <a:path w="864" h="444">
                  <a:moveTo>
                    <a:pt x="0" y="0"/>
                  </a:moveTo>
                  <a:cubicBezTo>
                    <a:pt x="91" y="33"/>
                    <a:pt x="396" y="122"/>
                    <a:pt x="540" y="196"/>
                  </a:cubicBezTo>
                  <a:cubicBezTo>
                    <a:pt x="684" y="270"/>
                    <a:pt x="796" y="392"/>
                    <a:pt x="864" y="444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474800" y="2762280"/>
              <a:ext cx="152640" cy="2286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489360" y="3081240"/>
              <a:ext cx="1268640" cy="68400"/>
            </a:xfrm>
            <a:custGeom>
              <a:avLst/>
              <a:gdLst/>
              <a:ahLst/>
              <a:rect l="l" t="t" r="r" b="b"/>
              <a:pathLst>
                <a:path w="799" h="43">
                  <a:moveTo>
                    <a:pt x="799" y="43"/>
                  </a:moveTo>
                  <a:lnTo>
                    <a:pt x="0" y="0"/>
                  </a:ln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151320" y="3219480"/>
              <a:ext cx="76320" cy="2286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084640" y="4667040"/>
              <a:ext cx="380880" cy="3049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real Bayes net: Ala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y example of a Markov 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666880" y="1143000"/>
            <a:ext cx="930240" cy="746280"/>
          </a:xfrm>
          <a:prstGeom prst="ellipse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61280" y="130176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861080" y="1143000"/>
            <a:ext cx="930240" cy="746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055480" y="130176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861080" y="2759040"/>
            <a:ext cx="930240" cy="746280"/>
          </a:xfrm>
          <a:prstGeom prst="ellipse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055480" y="291780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730680" y="2013120"/>
            <a:ext cx="930240" cy="745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925080" y="21718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666880" y="2759040"/>
            <a:ext cx="930240" cy="746280"/>
          </a:xfrm>
          <a:prstGeom prst="ellipse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861280" y="291780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597120" y="1515960"/>
            <a:ext cx="1263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421080" y="1824120"/>
            <a:ext cx="465120" cy="309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527360" y="1827360"/>
            <a:ext cx="531720" cy="311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3530520" y="2697120"/>
            <a:ext cx="333360" cy="18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594320" y="2573280"/>
            <a:ext cx="399960" cy="24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228600" y="5181480"/>
            <a:ext cx="8915400" cy="109224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3657600" y="3886200"/>
            <a:ext cx="5105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.g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33520" y="3886200"/>
            <a:ext cx="3276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cc99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rest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nb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410640" y="4537080"/>
            <a:ext cx="248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Times New Roman"/>
              </a:rPr>
              <a:t>Potential fu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2971800" y="4952880"/>
            <a:ext cx="914400" cy="5335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648320" y="4952880"/>
            <a:ext cx="838080" cy="5335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350160" y="6400800"/>
            <a:ext cx="23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Times New Roman"/>
              </a:rPr>
              <a:t>Partition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2590920" y="6248520"/>
            <a:ext cx="838080" cy="30456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real Markov 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vision_mrf" descr=""/>
          <p:cNvPicPr/>
          <p:nvPr/>
        </p:nvPicPr>
        <p:blipFill>
          <a:blip r:embed="rId1"/>
          <a:stretch/>
        </p:blipFill>
        <p:spPr>
          <a:xfrm>
            <a:off x="2590920" y="1143000"/>
            <a:ext cx="3703680" cy="283680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533520" y="4267080"/>
            <a:ext cx="8610480" cy="224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timate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P(observe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: local evid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/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xp(-J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): compatibility matrix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.f., Ising/Potts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308640" y="1184400"/>
            <a:ext cx="21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d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307560" y="2784600"/>
            <a:ext cx="183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tent cau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26T05:20:03Z</dcterms:created>
  <dc:creator>Kevin Murphy</dc:creator>
  <dc:description/>
  <dc:language>en-US</dc:language>
  <cp:lastModifiedBy>Kevin Murphy</cp:lastModifiedBy>
  <dcterms:modified xsi:type="dcterms:W3CDTF">2003-05-06T17:46:48Z</dcterms:modified>
  <cp:revision>40</cp:revision>
  <dc:subject/>
  <dc:title>The Bayes Net Toolbox for Matlab</dc:title>
</cp:coreProperties>
</file>