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FAF5-7D94-4AFF-B102-10459217F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3A7E-6B8D-4F4C-A6F7-0157EBDB2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679D-CACA-4C95-A285-01418A166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D5DF-5FC7-42CE-A2AB-B5420A5AD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E3FC-7E3F-40E2-94BB-BB8947CEC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3FD4-355D-4F98-BCD1-9B5FF6847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24EE-B0CB-4C3D-A26B-2C9308BC8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CC37-5DEA-4ABB-9ABE-80D050E61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98E8-6530-4551-9844-6C8D162EE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4E58-7275-4330-A15A-66CA4AEE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1722-0DE9-4DD3-A817-0D5A0713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1117-ED96-4BEE-AC81-FEAD0B515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DED41-269A-4194-AE37-8CFD4D8AAE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27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48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65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66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67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74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6" name=""/>
            <p:cNvCxnSpPr>
              <a:stCxn id="269" idx="2"/>
              <a:endCxn id="270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stCxn id="268" idx="2"/>
              <a:endCxn id="272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8" name=""/>
            <p:cNvCxnSpPr>
              <a:stCxn id="276" idx="6"/>
              <a:endCxn id="277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9" name=""/>
            <p:cNvCxnSpPr>
              <a:stCxn id="275" idx="6"/>
              <a:endCxn id="279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0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313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35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arm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 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8600" y="99072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8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0" name=""/>
            <p:cNvCxnSpPr>
              <a:stCxn id="385" idx="4"/>
              <a:endCxn id="38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9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40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42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42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43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45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45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8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8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50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  - linear time, two-pass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54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54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6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7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senting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discrete variables, potentials can be represented as multi-dimensional arrays (vectors for single node potentia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jointly Gaussian variables, we can u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we can use mixtures of Gaussians or non-parametric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295200" y="3689280"/>
            <a:ext cx="8248680" cy="46980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123120" y="4765680"/>
            <a:ext cx="82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80% of time is spent manipulating such multi-dimensional array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 and multipli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y clustering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ationally complexity is exponential in size of the resulting clusters (NP-h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228600" y="4038480"/>
            <a:ext cx="8229240" cy="2590920"/>
            <a:chOff x="228600" y="4038480"/>
            <a:chExt cx="8229240" cy="2590920"/>
          </a:xfrm>
        </p:grpSpPr>
        <p:pic>
          <p:nvPicPr>
            <p:cNvPr id="599" name="" descr=""/>
            <p:cNvPicPr/>
            <p:nvPr/>
          </p:nvPicPr>
          <p:blipFill>
            <a:blip r:embed="rId1"/>
            <a:stretch/>
          </p:blipFill>
          <p:spPr>
            <a:xfrm>
              <a:off x="228600" y="403848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fig15.10" descr=""/>
            <p:cNvPicPr/>
            <p:nvPr/>
          </p:nvPicPr>
          <p:blipFill>
            <a:blip r:embed="rId2"/>
            <a:stretch/>
          </p:blipFill>
          <p:spPr>
            <a:xfrm>
              <a:off x="4893120" y="436932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1783440" y="509796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226760" y="496548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 (structure learn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0320" y="2201760"/>
            <a:ext cx="4235400" cy="24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litative p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ed acyclic graph (DA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- random va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s - direct influ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35640" y="4998960"/>
            <a:ext cx="35323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ative p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of 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848640" y="2055960"/>
            <a:ext cx="2016000" cy="2166840"/>
            <a:chOff x="6848640" y="2055960"/>
            <a:chExt cx="2016000" cy="2166840"/>
          </a:xfrm>
        </p:grpSpPr>
        <p:sp>
          <p:nvSpPr>
            <p:cNvPr id="48" name=""/>
            <p:cNvSpPr/>
            <p:nvPr/>
          </p:nvSpPr>
          <p:spPr>
            <a:xfrm>
              <a:off x="6848640" y="2055960"/>
              <a:ext cx="2016000" cy="2166840"/>
            </a:xfrm>
            <a:prstGeom prst="wedgeRoundRectCallout">
              <a:avLst>
                <a:gd name="adj1" fmla="val -75199"/>
                <a:gd name="adj2" fmla="val 25606"/>
                <a:gd name="adj3" fmla="val 16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7005600" y="2170080"/>
              <a:ext cx="1757160" cy="2038680"/>
              <a:chOff x="7005600" y="2170080"/>
              <a:chExt cx="1757160" cy="2038680"/>
            </a:xfrm>
          </p:grpSpPr>
          <p:sp>
            <p:nvSpPr>
              <p:cNvPr id="50" name=""/>
              <p:cNvSpPr/>
              <p:nvPr/>
            </p:nvSpPr>
            <p:spPr>
              <a:xfrm>
                <a:off x="7005600" y="2174760"/>
                <a:ext cx="1720800" cy="1938240"/>
              </a:xfrm>
              <a:prstGeom prst="rect">
                <a:avLst/>
              </a:prstGeom>
              <a:solidFill>
                <a:srgbClr val="00cc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66908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15472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031520" y="301140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338960" y="380988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456320" y="3889080"/>
                <a:ext cx="10656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066440" y="34099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128000" y="3476520"/>
                <a:ext cx="106200" cy="144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690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1532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612560" y="3798720"/>
                <a:ext cx="58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68680" y="3798720"/>
                <a:ext cx="639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690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1532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338960" y="26143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025040" y="26143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343640" y="301140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461360" y="309528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338960" y="34099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066440" y="380988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128000" y="387000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336800" y="22716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022520" y="2271600"/>
                <a:ext cx="31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005600" y="2570040"/>
                <a:ext cx="17208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651800" y="2170080"/>
                <a:ext cx="1440" cy="19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632720" y="2295360"/>
                <a:ext cx="113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P(A | E,B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" name=""/>
          <p:cNvGrpSpPr/>
          <p:nvPr/>
        </p:nvGrpSpPr>
        <p:grpSpPr>
          <a:xfrm>
            <a:off x="3657600" y="1981080"/>
            <a:ext cx="3135240" cy="3033720"/>
            <a:chOff x="3657600" y="1981080"/>
            <a:chExt cx="3135240" cy="3033720"/>
          </a:xfrm>
        </p:grpSpPr>
        <p:grpSp>
          <p:nvGrpSpPr>
            <p:cNvPr id="77" name=""/>
            <p:cNvGrpSpPr/>
            <p:nvPr/>
          </p:nvGrpSpPr>
          <p:grpSpPr>
            <a:xfrm>
              <a:off x="3657600" y="1981080"/>
              <a:ext cx="3135240" cy="2129040"/>
              <a:chOff x="3657600" y="1981080"/>
              <a:chExt cx="3135240" cy="2129040"/>
            </a:xfrm>
          </p:grpSpPr>
          <p:sp>
            <p:nvSpPr>
              <p:cNvPr id="78" name=""/>
              <p:cNvSpPr/>
              <p:nvPr/>
            </p:nvSpPr>
            <p:spPr>
              <a:xfrm>
                <a:off x="3657600" y="2309760"/>
                <a:ext cx="3135240" cy="1800360"/>
              </a:xfrm>
              <a:custGeom>
                <a:avLst/>
                <a:gdLst/>
                <a:ahLst/>
                <a:rect l="l" t="t" r="r" b="b"/>
                <a:pathLst>
                  <a:path w="1975" h="1134">
                    <a:moveTo>
                      <a:pt x="0" y="0"/>
                    </a:moveTo>
                    <a:lnTo>
                      <a:pt x="1975" y="0"/>
                    </a:lnTo>
                    <a:lnTo>
                      <a:pt x="1655" y="1134"/>
                    </a:lnTo>
                    <a:lnTo>
                      <a:pt x="1043" y="11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99">
                  <a:alpha val="5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316040" y="1981080"/>
                <a:ext cx="2006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amily of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Ala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4049640" y="23763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43360" y="34815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45080" y="23749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94160" y="34815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19720" y="45244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358880" y="28576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799160" y="28526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900400" y="28735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3" idx="4"/>
              <a:endCxn id="84" idx="0"/>
            </p:cNvCxnSpPr>
            <p:nvPr/>
          </p:nvCxnSpPr>
          <p:spPr>
            <a:xfrm flipH="1">
              <a:off x="5810040" y="39859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89" name=""/>
          <p:cNvSpPr/>
          <p:nvPr/>
        </p:nvSpPr>
        <p:spPr>
          <a:xfrm>
            <a:off x="138240" y="961920"/>
            <a:ext cx="84834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mpact representation of joint probability distributions via conditional indepen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0320" y="4830840"/>
            <a:ext cx="39574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geth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 unique distribution in a factored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12760" y="6183360"/>
                <a:ext cx="67485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(belief)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4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71160" y="4952880"/>
            <a:ext cx="5061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ome values are miss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atent variables), we must u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ient descent or EM to compute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ocally) maximum likelihood estim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 flipV="1">
            <a:off x="990360" y="3200400"/>
            <a:ext cx="68580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 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1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784400" y="1641600"/>
            <a:ext cx="22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path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943600" y="1676520"/>
            <a:ext cx="2760480" cy="2639880"/>
            <a:chOff x="5943600" y="1676520"/>
            <a:chExt cx="2760480" cy="2639880"/>
          </a:xfrm>
        </p:grpSpPr>
        <p:sp>
          <p:nvSpPr>
            <p:cNvPr id="96" name=""/>
            <p:cNvSpPr/>
            <p:nvPr/>
          </p:nvSpPr>
          <p:spPr>
            <a:xfrm>
              <a:off x="6149880" y="16779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43600" y="27831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645320" y="16765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94400" y="27831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19960" y="38260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59120" y="21592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99400" y="21542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8000640" y="21751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4" name=""/>
            <p:cNvCxnSpPr>
              <a:stCxn id="99" idx="4"/>
              <a:endCxn id="100" idx="0"/>
            </p:cNvCxnSpPr>
            <p:nvPr/>
          </p:nvCxnSpPr>
          <p:spPr>
            <a:xfrm flipH="1">
              <a:off x="7910280" y="32875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6934320" cy="11019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10120" y="2362320"/>
            <a:ext cx="184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,B,E |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9280" y="1413000"/>
            <a:ext cx="530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ode is conditionally independent of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cestors given its parents,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2440" y="2708280"/>
            <a:ext cx="10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4560" y="4917960"/>
            <a:ext cx="59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 = 31 parameters to 1+1+2+4+2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52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53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9" name=""/>
            <p:cNvCxnSpPr>
              <a:stCxn id="653" idx="2"/>
              <a:endCxn id="654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60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62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79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5" name=""/>
            <p:cNvCxnSpPr>
              <a:stCxn id="679" idx="2"/>
              <a:endCxn id="680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86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89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5" name=""/>
            <p:cNvCxnSpPr>
              <a:stCxn id="689" idx="2"/>
              <a:endCxn id="690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96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1" name=""/>
          <p:cNvCxnSpPr>
            <a:stCxn id="705" idx="2"/>
            <a:endCxn id="706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719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25" name=""/>
            <p:cNvCxnSpPr>
              <a:stCxn id="719" idx="2"/>
              <a:endCxn id="720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Bayes net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3886200"/>
            <a:ext cx="8458200" cy="34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wrong with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little support for undirected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s are not bona fid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engines are not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online inference/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Bayesian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GU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file par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more complex than necess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alternatives to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UGI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ction tree inference only, no support for D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GM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2003, there are still very few GM programs that satisfy the following 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fast (smarter algorithms, not better coding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integrated with data analysis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143000" y="4800600"/>
            <a:ext cx="2819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219320" y="5181480"/>
            <a:ext cx="2819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an Bayes nets be used f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116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4" name=""/>
            <p:cNvCxnSpPr>
              <a:stCxn id="119" idx="4"/>
              <a:endCxn id="120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25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135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real-world BN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aperclip" descr=""/>
          <p:cNvPicPr/>
          <p:nvPr/>
        </p:nvPicPr>
        <p:blipFill>
          <a:blip r:embed="rId1"/>
          <a:stretch/>
        </p:blipFill>
        <p:spPr>
          <a:xfrm>
            <a:off x="7086600" y="5040360"/>
            <a:ext cx="2057400" cy="18176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soft’s competitive advantage lies in its expertise in Bayesian networks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 Bill Gates, quoted in LA Times, 19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 Answer Wizards, (printer) troubleshoo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l diagn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pedigree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ech recognition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 sequence/expression analys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rbocodes (channel codin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many systems, data arrives sequenti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Bayes nets (DBNs) can be used to model such time-series (sequence)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cases of DBNs incl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dden Markov models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20T17:17:51Z</dcterms:modified>
  <cp:revision>45</cp:revision>
  <dc:subject/>
  <dc:title>The Bayes Net Toolbox for Matlab</dc:title>
</cp:coreProperties>
</file>