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26.png" ContentType="image/png"/>
  <Override PartName="/ppt/media/image3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45.png" ContentType="image/png"/>
  <Override PartName="/ppt/media/image46.png" ContentType="image/png"/>
  <Override PartName="/ppt/media/image48.png" ContentType="image/png"/>
  <Override PartName="/ppt/media/image11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58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D3BD1-BBBD-4620-B28E-41A062DDD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D35E-D736-4AD6-A7E9-2F3CDA1D9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369F1-D66A-4338-B7AC-C4DC7AF3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F6E8-EB47-4F21-88BA-90A54DBBF2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E4F5B-3645-484A-9985-D7DBC1E7B4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03A4-AFDF-47D0-938D-2BE7CB88B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95DD1-4522-4AC6-9519-F58E2065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94C6-15F5-4007-81FF-65747746B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BF3B-2897-447D-BB5F-676987FEE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9C04B-3DFC-4670-9B67-249A77D490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3881-1ECA-4743-9075-E3E7AA01D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CB01C-C63C-479B-9F7B-E4E480F5D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E551D-9344-4F8D-99CD-C757167444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5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png"/><Relationship Id="rId3" Type="http://schemas.openxmlformats.org/officeDocument/2006/relationships/image" Target="../media/image45.png"/><Relationship Id="rId4" Type="http://schemas.openxmlformats.org/officeDocument/2006/relationships/slideLayout" Target="../slideLayouts/slideLayout5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6.png"/><Relationship Id="rId2" Type="http://schemas.openxmlformats.org/officeDocument/2006/relationships/image" Target="../media/image47.png"/><Relationship Id="rId3" Type="http://schemas.openxmlformats.org/officeDocument/2006/relationships/image" Target="../media/image48.png"/><Relationship Id="rId4" Type="http://schemas.openxmlformats.org/officeDocument/2006/relationships/slideLayout" Target="../slideLayouts/slideLayout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probabilistic graphical model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7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" descr=""/>
          <p:cNvPicPr/>
          <p:nvPr/>
        </p:nvPicPr>
        <p:blipFill>
          <a:blip r:embed="rId1"/>
          <a:stretch/>
        </p:blipFill>
        <p:spPr>
          <a:xfrm>
            <a:off x="990720" y="228600"/>
            <a:ext cx="6686280" cy="6419880"/>
          </a:xfrm>
          <a:prstGeom prst="rect">
            <a:avLst/>
          </a:prstGeom>
          <a:ln w="0">
            <a:noFill/>
          </a:ln>
        </p:spPr>
      </p:pic>
      <p:sp>
        <p:nvSpPr>
          <p:cNvPr id="206" name=""/>
          <p:cNvSpPr/>
          <p:nvPr/>
        </p:nvSpPr>
        <p:spPr>
          <a:xfrm>
            <a:off x="5327280" y="6234120"/>
            <a:ext cx="351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S. Roweis &amp; Z. Ghahrama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8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09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25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26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30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47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48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49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55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56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7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8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59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0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1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62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68" name=""/>
            <p:cNvCxnSpPr>
              <a:stCxn id="251" idx="2"/>
              <a:endCxn id="252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69" name=""/>
            <p:cNvCxnSpPr>
              <a:stCxn id="250" idx="2"/>
              <a:endCxn id="254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0" name=""/>
            <p:cNvCxnSpPr>
              <a:stCxn id="258" idx="6"/>
              <a:endCxn id="259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71" name=""/>
            <p:cNvCxnSpPr>
              <a:stCxn id="257" idx="6"/>
              <a:endCxn id="261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72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2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4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295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10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4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6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17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2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30" name=""/>
            <p:cNvCxnSpPr>
              <a:stCxn id="325" idx="4"/>
              <a:endCxn id="32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3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34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5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35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36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36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36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6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36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37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39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9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9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39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1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2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2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2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4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4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44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7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48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48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0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1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which satisfies the running intersection property (RI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IP ensures local propagation =&gt; global consistenc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1143000" y="472428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114552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2590920" y="472428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745360" y="4952880"/>
            <a:ext cx="5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19112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4269960" y="4952880"/>
            <a:ext cx="8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C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057400" y="5181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505320" y="51814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7086600" y="4800600"/>
            <a:ext cx="914400" cy="9144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562720" y="4800600"/>
            <a:ext cx="91440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105520" y="52578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477120" y="5257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722520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530120" y="49179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69440" y="49528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2286000" y="601992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410080" y="6095880"/>
            <a:ext cx="1600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2364480" y="6095880"/>
            <a:ext cx="104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C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472720" y="6054840"/>
            <a:ext cx="77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Junction tre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6" name=""/>
          <p:cNvGrpSpPr/>
          <p:nvPr/>
        </p:nvGrpSpPr>
        <p:grpSpPr>
          <a:xfrm>
            <a:off x="304920" y="914400"/>
            <a:ext cx="8229240" cy="2590920"/>
            <a:chOff x="304920" y="914400"/>
            <a:chExt cx="8229240" cy="2590920"/>
          </a:xfrm>
        </p:grpSpPr>
        <p:pic>
          <p:nvPicPr>
            <p:cNvPr id="547" name="" descr=""/>
            <p:cNvPicPr/>
            <p:nvPr/>
          </p:nvPicPr>
          <p:blipFill>
            <a:blip r:embed="rId1"/>
            <a:stretch/>
          </p:blipFill>
          <p:spPr>
            <a:xfrm>
              <a:off x="304920" y="91440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48" name="fig15.10" descr=""/>
            <p:cNvPicPr/>
            <p:nvPr/>
          </p:nvPicPr>
          <p:blipFill>
            <a:blip r:embed="rId2"/>
            <a:stretch/>
          </p:blipFill>
          <p:spPr>
            <a:xfrm>
              <a:off x="4969440" y="124524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9" name=""/>
            <p:cNvSpPr/>
            <p:nvPr/>
          </p:nvSpPr>
          <p:spPr>
            <a:xfrm>
              <a:off x="1859760" y="197388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303080" y="184140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51" name=""/>
          <p:cNvSpPr/>
          <p:nvPr/>
        </p:nvSpPr>
        <p:spPr>
          <a:xfrm>
            <a:off x="289080" y="3774960"/>
            <a:ext cx="7800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alize” G (if directed), ie., marry parents with childr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nd an elimination ordering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G chordal by triangulating according to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ke “meganodes” from maximal cliques C of chordal 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nect meganodes into junction 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tree is the min spanning tree of the jgrap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Symbol" charset="2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3654720" y="3352680"/>
            <a:ext cx="376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des in jtree are sets of rv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 flipV="1">
            <a:off x="6019920" y="2361960"/>
            <a:ext cx="228600" cy="11430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mputational complexity of exact discrete inference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G have N discrete nodes with S val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be the width induced by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ie., the size of the largest cliq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Inference takes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 S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inding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= argmin w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is NP-h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m: For an N=n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£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n grid, w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*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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367560" y="5638680"/>
            <a:ext cx="806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xact inference is computationally intractable in many network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: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Symbo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3" name="" descr=""/>
          <p:cNvPicPr/>
          <p:nvPr/>
        </p:nvPicPr>
        <p:blipFill>
          <a:blip r:embed="rId1"/>
          <a:stretch/>
        </p:blipFill>
        <p:spPr>
          <a:xfrm>
            <a:off x="1447920" y="4952880"/>
            <a:ext cx="5856120" cy="712800"/>
          </a:xfrm>
          <a:prstGeom prst="rect">
            <a:avLst/>
          </a:prstGeom>
          <a:ln w="0">
            <a:noFill/>
          </a:ln>
        </p:spPr>
      </p:pic>
      <p:pic>
        <p:nvPicPr>
          <p:cNvPr id="564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8356680" cy="91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6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567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9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70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 in DA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3" name="" descr=""/>
          <p:cNvPicPr/>
          <p:nvPr/>
        </p:nvPicPr>
        <p:blipFill>
          <a:blip r:embed="rId1"/>
          <a:stretch/>
        </p:blipFill>
        <p:spPr>
          <a:xfrm>
            <a:off x="533520" y="1295280"/>
            <a:ext cx="6400800" cy="1249560"/>
          </a:xfrm>
          <a:prstGeom prst="rect">
            <a:avLst/>
          </a:prstGeom>
          <a:ln w="0">
            <a:noFill/>
          </a:ln>
        </p:spPr>
      </p:pic>
      <p:sp>
        <p:nvSpPr>
          <p:cNvPr id="574" name=""/>
          <p:cNvSpPr/>
          <p:nvPr/>
        </p:nvSpPr>
        <p:spPr>
          <a:xfrm>
            <a:off x="219960" y="914400"/>
            <a:ext cx="866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or a DAG, the log-likelihood decomposes into a sum of local ter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0574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260880" y="312408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4491000" y="312408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2057400" y="40496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338560" y="36068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491000" y="4089240"/>
            <a:ext cx="61452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477216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3260880" y="4089240"/>
            <a:ext cx="615960" cy="48276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3543480" y="3646440"/>
            <a:ext cx="0" cy="442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2697120" y="3365640"/>
            <a:ext cx="5637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876840" y="3365640"/>
            <a:ext cx="563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216936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336132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4580640" y="31240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3361320" y="40384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3200" y="2590920"/>
            <a:ext cx="656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can optimize each CPD independently, e.g.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2"/>
          <a:stretch/>
        </p:blipFill>
        <p:spPr>
          <a:xfrm>
            <a:off x="304920" y="5877000"/>
            <a:ext cx="7493040" cy="981000"/>
          </a:xfrm>
          <a:prstGeom prst="rect">
            <a:avLst/>
          </a:prstGeom>
          <a:ln w="0">
            <a:noFill/>
          </a:ln>
        </p:spPr>
      </p:pic>
      <p:pic>
        <p:nvPicPr>
          <p:cNvPr id="592" name="" descr=""/>
          <p:cNvPicPr/>
          <p:nvPr/>
        </p:nvPicPr>
        <p:blipFill>
          <a:blip r:embed="rId3"/>
          <a:stretch/>
        </p:blipFill>
        <p:spPr>
          <a:xfrm>
            <a:off x="304920" y="4648320"/>
            <a:ext cx="7778520" cy="93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partial observ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858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en training an HMM, X</a:t>
            </a:r>
            <a:r>
              <a:rPr b="0" lang="en-US" sz="28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s hidden, so the log-likelihood no longer decomposes:</a:t>
            </a:r>
            <a:br>
              <a:rPr sz="2800"/>
            </a:br>
            <a:br>
              <a:rPr sz="2800"/>
            </a:b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n use Expectation Maximization (EM) algorithm (Baum Welch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 step: compute expected number of transi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 step : use expected counts as if they were re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53760" indent="-2512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aranteed to converge to a local optimum of 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01680" indent="-3016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an use (constrained) gradient asc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" descr=""/>
          <p:cNvPicPr/>
          <p:nvPr/>
        </p:nvPicPr>
        <p:blipFill>
          <a:blip r:embed="rId1"/>
          <a:stretch/>
        </p:blipFill>
        <p:spPr>
          <a:xfrm>
            <a:off x="152280" y="1973160"/>
            <a:ext cx="8661600" cy="932040"/>
          </a:xfrm>
          <a:prstGeom prst="rect">
            <a:avLst/>
          </a:prstGeom>
          <a:ln w="0">
            <a:noFill/>
          </a:ln>
        </p:spPr>
      </p:pic>
      <p:pic>
        <p:nvPicPr>
          <p:cNvPr id="596" name="" descr=""/>
          <p:cNvPicPr/>
          <p:nvPr/>
        </p:nvPicPr>
        <p:blipFill>
          <a:blip r:embed="rId2"/>
          <a:stretch/>
        </p:blipFill>
        <p:spPr>
          <a:xfrm>
            <a:off x="1066680" y="5573880"/>
            <a:ext cx="5639040" cy="12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8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9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0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1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02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probabilistic model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218960"/>
            <a:ext cx="7772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fer probable causes from partial/ noisy observations using Bayes’ rule</a:t>
            </a:r>
            <a:br>
              <a:rPr sz="3200"/>
            </a:br>
            <a:br>
              <a:rPr sz="3200"/>
            </a:b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ords from acoustic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bjects from imag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eases from sympto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fidence bounds on prediction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risk modeling, information gather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compression/ channel cod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1447920" y="2209680"/>
            <a:ext cx="5689440" cy="124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07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9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20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9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30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31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37" name=""/>
            <p:cNvCxnSpPr>
              <a:stCxn id="631" idx="2"/>
              <a:endCxn id="632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38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39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graphical mode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M is a parsimonious representation of a joint probability distribution,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nodes represent random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edges represent direct dependence (“causality” in the directed cas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lack of edges represent conditional independenc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45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1" name=""/>
            <p:cNvCxnSpPr>
              <a:stCxn id="645" idx="2"/>
              <a:endCxn id="646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2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5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63" name=""/>
            <p:cNvCxnSpPr>
              <a:stCxn id="657" idx="2"/>
              <a:endCxn id="65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64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9" name=""/>
          <p:cNvCxnSpPr>
            <a:stCxn id="683" idx="2"/>
            <a:endCxn id="684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1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3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697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697" idx="2"/>
              <a:endCxn id="698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CPDs that BNT suppo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05" name=""/>
          <p:cNvGraphicFramePr/>
          <p:nvPr/>
        </p:nvGraphicFramePr>
        <p:xfrm>
          <a:off x="380880" y="1523880"/>
          <a:ext cx="8229600" cy="458928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5979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d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rent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tribution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44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abular, noisy-or, decision tree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152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ditional Gauss.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805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iscrete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Softma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ontinuou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b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Linear Gaussian, ML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b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look under the hoo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ixture of Gaussia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EM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1" name="" descr=""/>
          <p:cNvPicPr/>
          <p:nvPr/>
        </p:nvPicPr>
        <p:blipFill>
          <a:blip r:embed="rId1"/>
          <a:stretch/>
        </p:blipFill>
        <p:spPr>
          <a:xfrm>
            <a:off x="0" y="1219320"/>
            <a:ext cx="9144000" cy="5065560"/>
          </a:xfrm>
          <a:prstGeom prst="rect">
            <a:avLst/>
          </a:prstGeom>
          <a:ln w="0">
            <a:noFill/>
          </a:ln>
        </p:spPr>
      </p:pic>
      <p:sp>
        <p:nvSpPr>
          <p:cNvPr id="712" name=""/>
          <p:cNvSpPr/>
          <p:nvPr/>
        </p:nvSpPr>
        <p:spPr>
          <a:xfrm>
            <a:off x="1704960" y="4648320"/>
            <a:ext cx="721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extracts its own expected sufficient stat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 flipV="1">
            <a:off x="2590920" y="4266720"/>
            <a:ext cx="761760" cy="38124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909360" y="6035760"/>
            <a:ext cx="785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ach CPD class knows how to compute ML param. estimates, </a:t>
            </a:r>
            <a:br>
              <a:rPr sz="2400"/>
            </a:b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e.g., softmax uses I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2133720" y="5638680"/>
            <a:ext cx="990360" cy="4572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5050800" y="1447920"/>
            <a:ext cx="1737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(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 | e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l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 flipH="1">
            <a:off x="1523520" y="1905120"/>
            <a:ext cx="3886200" cy="17524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ow junction tree inference is implemented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 the jtree from the grap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 the clique potentials with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un belief propagation on the jtre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Creating a junction tre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1" name="" descr=""/>
          <p:cNvPicPr/>
          <p:nvPr/>
        </p:nvPicPr>
        <p:blipFill>
          <a:blip r:embed="rId1"/>
          <a:stretch/>
        </p:blipFill>
        <p:spPr>
          <a:xfrm>
            <a:off x="1295280" y="1066680"/>
            <a:ext cx="6334200" cy="5448600"/>
          </a:xfrm>
          <a:prstGeom prst="rect">
            <a:avLst/>
          </a:prstGeom>
          <a:ln w="0">
            <a:noFill/>
          </a:ln>
        </p:spPr>
      </p:pic>
      <p:sp>
        <p:nvSpPr>
          <p:cNvPr id="722" name=""/>
          <p:cNvSpPr/>
          <p:nvPr/>
        </p:nvSpPr>
        <p:spPr>
          <a:xfrm>
            <a:off x="4876920" y="3733920"/>
            <a:ext cx="3047760" cy="251460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1676520" y="3733920"/>
            <a:ext cx="3047760" cy="2514600"/>
          </a:xfrm>
          <a:prstGeom prst="rect">
            <a:avLst/>
          </a:prstGeom>
          <a:noFill/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87640" y="1184400"/>
            <a:ext cx="387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s my graph theory toolbo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6170040" y="2819520"/>
            <a:ext cx="277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P-hard to optimize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 flipH="1" flipV="1">
            <a:off x="5791320" y="281916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2282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Initializing the cliqu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8" name="" descr=""/>
          <p:cNvPicPr/>
          <p:nvPr/>
        </p:nvPicPr>
        <p:blipFill>
          <a:blip r:embed="rId1"/>
          <a:stretch/>
        </p:blipFill>
        <p:spPr>
          <a:xfrm>
            <a:off x="533520" y="1373040"/>
            <a:ext cx="8534160" cy="510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Belief propagation (centralized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0" name="" descr=""/>
          <p:cNvPicPr/>
          <p:nvPr/>
        </p:nvPicPr>
        <p:blipFill>
          <a:blip r:embed="rId1"/>
          <a:stretch/>
        </p:blipFill>
        <p:spPr>
          <a:xfrm>
            <a:off x="838080" y="1066680"/>
            <a:ext cx="7391520" cy="4552920"/>
          </a:xfrm>
          <a:prstGeom prst="rect">
            <a:avLst/>
          </a:prstGeom>
          <a:ln w="0">
            <a:noFill/>
          </a:ln>
        </p:spPr>
      </p:pic>
      <p:pic>
        <p:nvPicPr>
          <p:cNvPr id="731" name="" descr=""/>
          <p:cNvPicPr/>
          <p:nvPr/>
        </p:nvPicPr>
        <p:blipFill>
          <a:blip r:embed="rId2"/>
          <a:stretch/>
        </p:blipFill>
        <p:spPr>
          <a:xfrm>
            <a:off x="5410080" y="2666880"/>
            <a:ext cx="3098880" cy="1168560"/>
          </a:xfrm>
          <a:prstGeom prst="rect">
            <a:avLst/>
          </a:prstGeom>
          <a:ln w="0">
            <a:noFill/>
          </a:ln>
        </p:spPr>
      </p:pic>
      <p:sp>
        <p:nvSpPr>
          <p:cNvPr id="732" name=""/>
          <p:cNvSpPr/>
          <p:nvPr/>
        </p:nvSpPr>
        <p:spPr>
          <a:xfrm flipH="1">
            <a:off x="2666880" y="3276720"/>
            <a:ext cx="289584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 flipH="1" flipV="1">
            <a:off x="2362320" y="5105520"/>
            <a:ext cx="2590560" cy="8380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4" name="" descr=""/>
          <p:cNvPicPr/>
          <p:nvPr/>
        </p:nvPicPr>
        <p:blipFill>
          <a:blip r:embed="rId3"/>
          <a:stretch/>
        </p:blipFill>
        <p:spPr>
          <a:xfrm>
            <a:off x="5257800" y="5257800"/>
            <a:ext cx="3505320" cy="132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6" name="" descr=""/>
          <p:cNvPicPr/>
          <p:nvPr/>
        </p:nvPicPr>
        <p:blipFill>
          <a:blip r:embed="rId1"/>
          <a:stretch/>
        </p:blipFill>
        <p:spPr>
          <a:xfrm>
            <a:off x="228600" y="3657600"/>
            <a:ext cx="8381880" cy="533520"/>
          </a:xfrm>
          <a:prstGeom prst="rect">
            <a:avLst/>
          </a:prstGeom>
          <a:ln w="0">
            <a:noFill/>
          </a:ln>
        </p:spPr>
      </p:pic>
      <p:pic>
        <p:nvPicPr>
          <p:cNvPr id="737" name="" descr=""/>
          <p:cNvPicPr/>
          <p:nvPr/>
        </p:nvPicPr>
        <p:blipFill>
          <a:blip r:embed="rId2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73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213120" y="4384800"/>
            <a:ext cx="123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vi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" descr=""/>
          <p:cNvPicPr/>
          <p:nvPr/>
        </p:nvPicPr>
        <p:blipFill>
          <a:blip r:embed="rId3"/>
          <a:stretch/>
        </p:blipFill>
        <p:spPr>
          <a:xfrm>
            <a:off x="473040" y="5060880"/>
            <a:ext cx="8047080" cy="46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, multiplication and “division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 use moment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or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nonical (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kinds of inference algo’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60948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opy belief propagati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es not require constructing a jt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ssage passing slightly simp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not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. successful in practice, e.g., turbocodes/ LDP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ructured variational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n use jtree/BP as subrouti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quires more math; less turn-ke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4320" indent="-2743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ibbs sampl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llel, distributed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cal operations require random number gener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9436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iterate; may take long time to converg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33520" y="-228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Bayes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" name=""/>
          <p:cNvGrpSpPr/>
          <p:nvPr/>
        </p:nvGrpSpPr>
        <p:grpSpPr>
          <a:xfrm>
            <a:off x="533520" y="990720"/>
            <a:ext cx="3124080" cy="2895480"/>
            <a:chOff x="533520" y="990720"/>
            <a:chExt cx="3124080" cy="2895480"/>
          </a:xfrm>
        </p:grpSpPr>
        <p:sp>
          <p:nvSpPr>
            <p:cNvPr id="65" name=""/>
            <p:cNvSpPr/>
            <p:nvPr/>
          </p:nvSpPr>
          <p:spPr>
            <a:xfrm>
              <a:off x="1524240" y="990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814760" y="1184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533520" y="2057400"/>
              <a:ext cx="1066680" cy="8384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824400" y="225108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590920" y="2133720"/>
              <a:ext cx="10666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881800" y="23274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600200" y="3048120"/>
              <a:ext cx="106704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90720" y="3241800"/>
              <a:ext cx="468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447920" y="2819520"/>
              <a:ext cx="3049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>
              <a:off x="1371240" y="1752840"/>
              <a:ext cx="38124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438640" y="1676520"/>
              <a:ext cx="45720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>
              <a:off x="2590560" y="2971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533520" y="4267080"/>
            <a:ext cx="7696080" cy="210816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4365360" y="1295280"/>
            <a:ext cx="22687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&lt;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Symbol"/>
                <a:ea typeface="Symbol"/>
              </a:rPr>
              <a:t>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318560" y="1866960"/>
            <a:ext cx="2203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R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W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S, 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59680" y="3317760"/>
            <a:ext cx="472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4647960" y="3809880"/>
            <a:ext cx="152280" cy="114300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791320" y="3886200"/>
            <a:ext cx="914400" cy="9907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40040" y="879480"/>
            <a:ext cx="83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556880" y="650880"/>
            <a:ext cx="140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Ancesto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6477480" y="609480"/>
            <a:ext cx="108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Par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5638680" y="1066680"/>
            <a:ext cx="76320" cy="457200"/>
          </a:xfrm>
          <a:prstGeom prst="line">
            <a:avLst/>
          </a:prstGeom>
          <a:ln w="38160">
            <a:solidFill>
              <a:srgbClr val="3333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476760" y="990720"/>
            <a:ext cx="533160" cy="5331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582720" y="1828800"/>
            <a:ext cx="69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.g.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other interesting GM projec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in R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uritzen et al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 find out more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1219320" y="2844720"/>
            <a:ext cx="665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Bayes/bayes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432360" y="1793880"/>
            <a:ext cx="84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#3 Google rated site on GMs (after the journal “Graphical Models”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91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06T17:46:48Z</dcterms:modified>
  <cp:revision>40</cp:revision>
  <dc:subject/>
  <dc:title>The Bayes Net Toolbox for Matlab</dc:title>
</cp:coreProperties>
</file>