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DCAE-121B-4ECC-9FFC-2C7135482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093E-42F9-489F-ABA3-FF706133E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A76C-51BE-4487-B1E5-FDB24CCF8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FD52-9CD9-4EFB-8031-3128C8CC0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F3F9-FDA3-4C55-B713-80B30D9F4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7F42-F082-4F1F-B01E-E6FCF232A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231B-D3D7-4E51-9346-6AA21BCC1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18C3-14A0-42C4-8CCC-BD26E1139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5AD4-839F-4478-9CEF-649E9DFC4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DB11-192C-4084-9455-9302D97FB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5A0A-F219-43BD-9617-FD0CD431E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C391-8588-4C00-93F4-C9F23F27B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4055A-280F-443B-AEC1-3F10B97A63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probabilistic graphical mod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686280" cy="64198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27280" y="6234120"/>
            <a:ext cx="351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S. Roweis &amp; Z. Ghahrama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09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30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47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48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49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56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8" name=""/>
            <p:cNvCxnSpPr>
              <a:stCxn id="251" idx="2"/>
              <a:endCxn id="252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9" name=""/>
            <p:cNvCxnSpPr>
              <a:stCxn id="250" idx="2"/>
              <a:endCxn id="254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0" name=""/>
            <p:cNvCxnSpPr>
              <a:stCxn id="258" idx="6"/>
              <a:endCxn id="259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1" name=""/>
            <p:cNvCxnSpPr>
              <a:stCxn id="257" idx="6"/>
              <a:endCxn id="261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2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295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17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2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0" name=""/>
            <p:cNvCxnSpPr>
              <a:stCxn id="325" idx="4"/>
              <a:endCxn id="32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3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34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36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36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37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39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39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2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2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44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48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48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0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1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ich satisfies the running intersection property (RI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 ensures local propagation =&gt; global consistenc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143000" y="472428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14552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590920" y="472428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745360" y="49528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19112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26996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057400" y="5181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50532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08660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562720" y="480060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1055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477120" y="5257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22520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53012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869440" y="4952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286000" y="60199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410080" y="60958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364480" y="6095880"/>
            <a:ext cx="10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C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472720" y="6054840"/>
            <a:ext cx="77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nctio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304920" y="914400"/>
            <a:ext cx="8229240" cy="2590920"/>
            <a:chOff x="304920" y="914400"/>
            <a:chExt cx="8229240" cy="2590920"/>
          </a:xfrm>
        </p:grpSpPr>
        <p:pic>
          <p:nvPicPr>
            <p:cNvPr id="547" name="" descr=""/>
            <p:cNvPicPr/>
            <p:nvPr/>
          </p:nvPicPr>
          <p:blipFill>
            <a:blip r:embed="rId1"/>
            <a:stretch/>
          </p:blipFill>
          <p:spPr>
            <a:xfrm>
              <a:off x="304920" y="91440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fig15.10" descr=""/>
            <p:cNvPicPr/>
            <p:nvPr/>
          </p:nvPicPr>
          <p:blipFill>
            <a:blip r:embed="rId2"/>
            <a:stretch/>
          </p:blipFill>
          <p:spPr>
            <a:xfrm>
              <a:off x="4969440" y="124524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"/>
            <p:cNvSpPr/>
            <p:nvPr/>
          </p:nvSpPr>
          <p:spPr>
            <a:xfrm>
              <a:off x="1859760" y="197388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303080" y="184140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289080" y="3774960"/>
            <a:ext cx="7800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alize” G (if directed), ie., marry parents with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n elimination orderi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G chordal by triangulating according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“meganodes” from maximal cliques C of chordal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 meganodes into junction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tree is the min spanning tree of the j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654720" y="3352680"/>
            <a:ext cx="37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des in jtree are sets of rv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6019920" y="2361960"/>
            <a:ext cx="2286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utational complexity of exact discrete inferen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G have N discrete nodes with S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the width induced b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e., the size of the largest cl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Inference take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 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ind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argmin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NP-h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or an N=n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 grid, w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67560" y="5638680"/>
            <a:ext cx="80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act inference is computationally intractable in many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: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Symbo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447920" y="4952880"/>
            <a:ext cx="5856120" cy="71280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380880" y="2819520"/>
            <a:ext cx="8356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0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 in D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6400800" cy="124956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219960" y="914400"/>
            <a:ext cx="86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 DAG, the log-likelihood decomposes into a sum of local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0574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260880" y="312408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4910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057400" y="40496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338560" y="36068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491000" y="40892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77216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260880" y="408924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54348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697120" y="3365640"/>
            <a:ext cx="563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876840" y="3365640"/>
            <a:ext cx="563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16936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6132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58064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361320" y="40384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23200" y="2590920"/>
            <a:ext cx="656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can optimize each CPD independently, e.g.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2"/>
          <a:stretch/>
        </p:blipFill>
        <p:spPr>
          <a:xfrm>
            <a:off x="304920" y="5877000"/>
            <a:ext cx="7493040" cy="98100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3"/>
          <a:stretch/>
        </p:blipFill>
        <p:spPr>
          <a:xfrm>
            <a:off x="304920" y="4648320"/>
            <a:ext cx="777852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partial observ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raining an HMM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hidden, so the log-likelihood no longer decomposes: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use Expectation Maximization (EM) algorithm (Baum Welc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step: compute expected number of tran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step : use expected counts as if they were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anteed to converge to a local optimum of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can use (constrained) gradient asc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152280" y="1973160"/>
            <a:ext cx="8661600" cy="93204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1066680" y="5573880"/>
            <a:ext cx="5639040" cy="12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0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1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probabilistic model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r probable causes from partial/ noisy observations using Bayes’ rule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s from acou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from im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eases from symp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idence bounds on predic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isk modeling, information gather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compression/ channel 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689440" cy="12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9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30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31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7" name=""/>
            <p:cNvCxnSpPr>
              <a:stCxn id="631" idx="2"/>
              <a:endCxn id="632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38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graphical mode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M is a parsimonious representation of a joint probability distribution,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odes represent random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dges represent direct dependence (“causality” in the directed ca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ack of edges represent conditional independ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45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1" name=""/>
            <p:cNvCxnSpPr>
              <a:stCxn id="645" idx="2"/>
              <a:endCxn id="646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52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5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63" name=""/>
            <p:cNvCxnSpPr>
              <a:stCxn id="657" idx="2"/>
              <a:endCxn id="65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64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9" name=""/>
          <p:cNvCxnSpPr>
            <a:stCxn id="683" idx="2"/>
            <a:endCxn id="684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3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697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697" idx="2"/>
              <a:endCxn id="698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CPDs that BNT suppo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5" name=""/>
          <p:cNvGraphicFramePr/>
          <p:nvPr/>
        </p:nvGraphicFramePr>
        <p:xfrm>
          <a:off x="380880" y="1523880"/>
          <a:ext cx="8229600" cy="4589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97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tribu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bular, noisy-or, decision tre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ditional Gaus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tma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ar Gaussian, M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ook under the h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xture of Gaussi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065560"/>
          </a:xfrm>
          <a:prstGeom prst="rect">
            <a:avLst/>
          </a:prstGeom>
          <a:ln w="0">
            <a:noFill/>
          </a:ln>
        </p:spPr>
      </p:pic>
      <p:sp>
        <p:nvSpPr>
          <p:cNvPr id="712" name=""/>
          <p:cNvSpPr/>
          <p:nvPr/>
        </p:nvSpPr>
        <p:spPr>
          <a:xfrm>
            <a:off x="1704960" y="4648320"/>
            <a:ext cx="72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extracts its own expected sufficient st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2590920" y="4266720"/>
            <a:ext cx="76176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909360" y="6035760"/>
            <a:ext cx="785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knows how to compute ML param. estimates,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.g., softmax uses I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2133720" y="5638680"/>
            <a:ext cx="99036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050800" y="1447920"/>
            <a:ext cx="173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(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| e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1523520" y="1905120"/>
            <a:ext cx="3886200" cy="1752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the jtree from the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ize the clique potentials with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 belief propagation on the j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Creating a junction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6334200" cy="544860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/>
          <p:nvPr/>
        </p:nvSpPr>
        <p:spPr>
          <a:xfrm>
            <a:off x="4876920" y="3733920"/>
            <a:ext cx="3047760" cy="25146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676520" y="3733920"/>
            <a:ext cx="3047760" cy="2514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87640" y="1184400"/>
            <a:ext cx="38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my graph theory tool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170040" y="2819520"/>
            <a:ext cx="277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P-hard to optimiz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 flipV="1">
            <a:off x="5791320" y="281916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Initializing the cliqu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8" name="" descr=""/>
          <p:cNvPicPr/>
          <p:nvPr/>
        </p:nvPicPr>
        <p:blipFill>
          <a:blip r:embed="rId1"/>
          <a:stretch/>
        </p:blipFill>
        <p:spPr>
          <a:xfrm>
            <a:off x="533520" y="1373040"/>
            <a:ext cx="8534160" cy="51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Belief propagation (centraliz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391520" cy="455292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2"/>
          <a:stretch/>
        </p:blipFill>
        <p:spPr>
          <a:xfrm>
            <a:off x="5410080" y="2666880"/>
            <a:ext cx="3098880" cy="116856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 flipH="1">
            <a:off x="2666880" y="3276720"/>
            <a:ext cx="289584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 flipV="1">
            <a:off x="2362320" y="5105520"/>
            <a:ext cx="259056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4" name="" descr=""/>
          <p:cNvPicPr/>
          <p:nvPr/>
        </p:nvPicPr>
        <p:blipFill>
          <a:blip r:embed="rId3"/>
          <a:stretch/>
        </p:blipFill>
        <p:spPr>
          <a:xfrm>
            <a:off x="5257800" y="5257800"/>
            <a:ext cx="350532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228600" y="3657600"/>
            <a:ext cx="8381880" cy="53352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2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73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13120" y="438480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3"/>
          <a:stretch/>
        </p:blipFill>
        <p:spPr>
          <a:xfrm>
            <a:off x="473040" y="5060880"/>
            <a:ext cx="804708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, multiplication and “divisio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use moment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onical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inference algo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py belief propag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require constructing a j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passing slightly simp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not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successful in practice, e.g., turbocodes/ LD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d variational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use jtree/BP as sub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more math; less turn-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bbs samp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llel, distributed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operations require random number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take long time to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Bayes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533520" y="990720"/>
            <a:ext cx="3124080" cy="2895480"/>
            <a:chOff x="533520" y="990720"/>
            <a:chExt cx="3124080" cy="2895480"/>
          </a:xfrm>
        </p:grpSpPr>
        <p:sp>
          <p:nvSpPr>
            <p:cNvPr id="65" name=""/>
            <p:cNvSpPr/>
            <p:nvPr/>
          </p:nvSpPr>
          <p:spPr>
            <a:xfrm>
              <a:off x="1524240" y="990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814760" y="1184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3520" y="2057400"/>
              <a:ext cx="1066680" cy="838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24400" y="2251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590920" y="2133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881800" y="2327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600200" y="3048120"/>
              <a:ext cx="106704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324180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447920" y="281952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1371240" y="1752840"/>
              <a:ext cx="3812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8640" y="167652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590560" y="297180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3520" y="4267080"/>
            <a:ext cx="7696080" cy="21081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365360" y="1295280"/>
            <a:ext cx="226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&lt;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18560" y="1866960"/>
            <a:ext cx="220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, 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59680" y="3317760"/>
            <a:ext cx="472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4647960" y="3809880"/>
            <a:ext cx="152280" cy="114300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91320" y="3886200"/>
            <a:ext cx="914400" cy="990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0040" y="87948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56880" y="6508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nces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7480" y="60948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638680" y="1066680"/>
            <a:ext cx="7632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476760" y="990720"/>
            <a:ext cx="53316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82720" y="182880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other interesting GM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in R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uritzen et al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find out mor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219320" y="2844720"/>
            <a:ext cx="665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Bayes/bayes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32360" y="1793880"/>
            <a:ext cx="84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3 Google rated site on GMs (after the journal “Graphical Models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91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06T17:46:48Z</dcterms:modified>
  <cp:revision>40</cp:revision>
  <dc:subject/>
  <dc:title>The Bayes Net Toolbox for Matlab</dc:title>
</cp:coreProperties>
</file>