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DE14-645C-483C-98DB-BAB836371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0D8C-25BC-4BED-B8BC-AA495D839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C98E-44E9-420B-BB95-9288E6495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31E1-832C-448E-AF63-58854E451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62E3-EC1D-4CDD-90EF-E986A199D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E52E-33DC-402E-B67D-8EB111B3D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566E-E00E-476A-B841-6FB2A7FB0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1463-E8F9-4EB8-8983-0CD0E48EB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28F7-53CC-45DA-B321-5F5EE1F7E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E5D5-2629-4E70-8D67-4A0545E8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AA46-CDC1-4BAD-850C-EB90C6C4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7B17-CF78-4DAE-A0D2-93FD2A0C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5BF59-99DF-4235-BC2A-E02B2557D8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probabilistic graphical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686280" cy="64198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27280" y="6234120"/>
            <a:ext cx="351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S. Roweis &amp; Z. Ghahram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09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30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48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49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56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8" name=""/>
            <p:cNvCxnSpPr>
              <a:stCxn id="251" idx="2"/>
              <a:endCxn id="252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9" name=""/>
            <p:cNvCxnSpPr>
              <a:stCxn id="250" idx="2"/>
              <a:endCxn id="254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0" name=""/>
            <p:cNvCxnSpPr>
              <a:stCxn id="258" idx="6"/>
              <a:endCxn id="259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57" idx="6"/>
              <a:endCxn id="261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2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295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17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2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0" name=""/>
            <p:cNvCxnSpPr>
              <a:stCxn id="325" idx="4"/>
              <a:endCxn id="32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3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34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36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37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39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39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2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2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44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48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48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0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1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satisfies the running intersection property (RI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 ensures local propagation =&gt; global consistenc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143000" y="47242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14552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472428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45360" y="4952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9112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6996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57400" y="5181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0532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8660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48006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1055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477120" y="5257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2520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53012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9440" y="495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86000" y="6019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1008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64480" y="609588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72720" y="6054840"/>
            <a:ext cx="7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nctio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04920" y="914400"/>
            <a:ext cx="8229240" cy="2590920"/>
            <a:chOff x="304920" y="914400"/>
            <a:chExt cx="8229240" cy="2590920"/>
          </a:xfrm>
        </p:grpSpPr>
        <p:pic>
          <p:nvPicPr>
            <p:cNvPr id="547" name="" descr=""/>
            <p:cNvPicPr/>
            <p:nvPr/>
          </p:nvPicPr>
          <p:blipFill>
            <a:blip r:embed="rId1"/>
            <a:stretch/>
          </p:blipFill>
          <p:spPr>
            <a:xfrm>
              <a:off x="304920" y="91440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fig15.10" descr=""/>
            <p:cNvPicPr/>
            <p:nvPr/>
          </p:nvPicPr>
          <p:blipFill>
            <a:blip r:embed="rId2"/>
            <a:stretch/>
          </p:blipFill>
          <p:spPr>
            <a:xfrm>
              <a:off x="4969440" y="124524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1859760" y="197388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03080" y="184140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289080" y="3774960"/>
            <a:ext cx="7800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ize” G (if directed), ie., marry parents with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n elimination order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G chordal by triangulating according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“meganodes” from maximal cliques C of chordal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 meganodes into junction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tree is the min spanning tree of the j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54720" y="335268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des in jtree are sets of rv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6019920" y="2361960"/>
            <a:ext cx="2286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ational complexity of exact discrete inferen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G have N discrete nodes with S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the width induced b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e., the size of the largest cl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Inference take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ind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argmin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NP-h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or an N=n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 grid, w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7560" y="5638680"/>
            <a:ext cx="80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act inference is computationally intractable in many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Symbo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4952880"/>
            <a:ext cx="5856120" cy="7128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835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 in D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6400800" cy="12495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219960" y="914400"/>
            <a:ext cx="86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DAG, the log-likelihood decomposes into a sum of local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0574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60880" y="312408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910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40496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338560" y="36068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91000" y="40892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7216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60880" y="408924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54348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697120" y="3365640"/>
            <a:ext cx="563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76840" y="3365640"/>
            <a:ext cx="563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6936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6132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58064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361320" y="40384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3200" y="2590920"/>
            <a:ext cx="65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can optimize each CPD independently, e.g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304920" y="5877000"/>
            <a:ext cx="7493040" cy="98100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304920" y="4648320"/>
            <a:ext cx="77785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partial observ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raining an HMM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hidden, so the log-likelihood no longer decomposes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Expectation Maximization (EM) algorithm (Baum Welc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step: compute expected number of 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step : use expected counts as if they were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anteed to converge to a local optimum of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can use (constrained) gradient a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52280" y="1973160"/>
            <a:ext cx="8661600" cy="9320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066680" y="5573880"/>
            <a:ext cx="563904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probabilistic mode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 probable causes from partial/ noisy observations using Bayes’ rule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s from acou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from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ases from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dence bounds on predi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isk modeling, information gathe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ompression/ channel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689440" cy="12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30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31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7" name=""/>
            <p:cNvCxnSpPr>
              <a:stCxn id="631" idx="2"/>
              <a:endCxn id="632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graphical mod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M is a parsimonious representation of a joint probability distribution,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odes represent random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dges represent direct dependence (“causality” in the directed c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ck of edges represent conditional in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45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1" name=""/>
            <p:cNvCxnSpPr>
              <a:stCxn id="645" idx="2"/>
              <a:endCxn id="646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52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5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3" name=""/>
            <p:cNvCxnSpPr>
              <a:stCxn id="657" idx="2"/>
              <a:endCxn id="65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64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3" idx="2"/>
            <a:endCxn id="684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697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697" idx="2"/>
              <a:endCxn id="698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CPDs that BNT supp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380880" y="1523880"/>
          <a:ext cx="8229600" cy="4589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9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b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ular, noisy-or, decision tr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tional Gaus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t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ar Gaussian, M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ook under the h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xture of Gauss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06556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1704960" y="4648320"/>
            <a:ext cx="72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extracts its own expected sufficient st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590920" y="4266720"/>
            <a:ext cx="76176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09360" y="6035760"/>
            <a:ext cx="785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knows how to compute ML param. estimates,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.g., softmax uses I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2133720" y="5638680"/>
            <a:ext cx="9903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050800" y="1447920"/>
            <a:ext cx="173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| 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523520" y="1905120"/>
            <a:ext cx="3886200" cy="1752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he jtree from the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 the clique potentials with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belief propagation on the j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Creating a junction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334200" cy="54486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4876920" y="3733920"/>
            <a:ext cx="3047760" cy="25146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676520" y="3733920"/>
            <a:ext cx="3047760" cy="2514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87640" y="118440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my graph theory tool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170040" y="281952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P-hard to optimiz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 flipV="1">
            <a:off x="5791320" y="28191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Initializing the cliqu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533520" y="1373040"/>
            <a:ext cx="8534160" cy="51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Belief propagation (centraliz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391520" cy="455292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>
            <a:off x="5410080" y="2666880"/>
            <a:ext cx="3098880" cy="116856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 flipH="1">
            <a:off x="2666880" y="3276720"/>
            <a:ext cx="289584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2362320" y="5105520"/>
            <a:ext cx="259056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3"/>
          <a:stretch/>
        </p:blipFill>
        <p:spPr>
          <a:xfrm>
            <a:off x="5257800" y="5257800"/>
            <a:ext cx="350532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8381880" cy="5335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13120" y="43848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3"/>
          <a:stretch/>
        </p:blipFill>
        <p:spPr>
          <a:xfrm>
            <a:off x="473040" y="5060880"/>
            <a:ext cx="804708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, multiplication and “divis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moment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onical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inference algo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py belief propag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require constructing a j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passing slightly sim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not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successful in practice, e.g., turbocodes/ LD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variational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jtree/BP as sub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more math; less turn-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bbs 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, distributed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operations require random number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take long time to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Bayes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33520" y="990720"/>
            <a:ext cx="3124080" cy="2895480"/>
            <a:chOff x="533520" y="990720"/>
            <a:chExt cx="3124080" cy="2895480"/>
          </a:xfrm>
        </p:grpSpPr>
        <p:sp>
          <p:nvSpPr>
            <p:cNvPr id="65" name=""/>
            <p:cNvSpPr/>
            <p:nvPr/>
          </p:nvSpPr>
          <p:spPr>
            <a:xfrm>
              <a:off x="1524240" y="990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14760" y="1184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3520" y="2057400"/>
              <a:ext cx="1066680" cy="83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4400" y="22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90920" y="2133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81800" y="2327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00200" y="3048120"/>
              <a:ext cx="106704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32418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47920" y="281952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371240" y="175284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8640" y="16765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590560" y="2971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4267080"/>
            <a:ext cx="7696080" cy="2108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365360" y="1295280"/>
            <a:ext cx="226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&lt;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18560" y="1866960"/>
            <a:ext cx="220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,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59680" y="331776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647960" y="3809880"/>
            <a:ext cx="152280" cy="1143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3886200"/>
            <a:ext cx="914400" cy="990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0040" y="8794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56880" y="6508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ce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480" y="6094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38680" y="1066680"/>
            <a:ext cx="7632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476760" y="990720"/>
            <a:ext cx="53316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2720" y="182880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other interesting GM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in 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ritzen et a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find out mo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219320" y="2844720"/>
            <a:ext cx="66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Bayes/baye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32360" y="1793880"/>
            <a:ext cx="84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3 Google rated site on GMs (after the journal “Graphical Model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91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06T17:46:48Z</dcterms:modified>
  <cp:revision>40</cp:revision>
  <dc:subject/>
  <dc:title>The Bayes Net Toolbox for Matlab</dc:title>
</cp:coreProperties>
</file>